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26.jpeg" ContentType="image/jpeg"/>
  <Override PartName="/ppt/media/image42.png" ContentType="image/png"/>
  <Override PartName="/ppt/media/image20.wmf" ContentType="image/x-wmf"/>
  <Override PartName="/ppt/media/image19.gif" ContentType="image/gif"/>
  <Override PartName="/ppt/media/image15.wmf" ContentType="image/x-wmf"/>
  <Override PartName="/ppt/media/image23.png" ContentType="image/png"/>
  <Override PartName="/ppt/media/image18.gif" ContentType="image/gif"/>
  <Override PartName="/ppt/media/image14.wmf" ContentType="image/x-wmf"/>
  <Override PartName="/ppt/media/image16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33.png" ContentType="image/png"/>
  <Override PartName="/ppt/media/image34.png" ContentType="image/png"/>
  <Override PartName="/ppt/media/image44.jpeg" ContentType="image/jpeg"/>
  <Override PartName="/ppt/media/image17.wmf" ContentType="image/x-wmf"/>
  <Override PartName="/ppt/media/image29.gif" ContentType="image/gif"/>
  <Override PartName="/ppt/media/image36.png" ContentType="image/png"/>
  <Override PartName="/ppt/media/image12.gif" ContentType="image/gif"/>
  <Override PartName="/ppt/media/image30.png" ContentType="image/png"/>
  <Override PartName="/ppt/media/image3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0.png" ContentType="image/png"/>
  <Override PartName="/ppt/media/image11.jpeg" ContentType="image/jpeg"/>
  <Override PartName="/ppt/media/image32.wmf" ContentType="image/x-wmf"/>
  <Override PartName="/ppt/media/chimes.wav" ContentType="audio/x-wav"/>
  <Override PartName="/ppt/media/image37.png" ContentType="image/png"/>
  <Override PartName="/ppt/media/image45.jpeg" ContentType="image/jpeg"/>
  <Override PartName="/ppt/media/image5.png" ContentType="image/png"/>
  <Override PartName="/ppt/media/image43.jpeg" ContentType="image/jpeg"/>
  <Override PartName="/ppt/media/image10.gif" ContentType="image/gif"/>
  <Override PartName="/ppt/media/image9.png" ContentType="image/png"/>
  <Override PartName="/ppt/media/image46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465-A039-4885-A64D-E2A36533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D9A-FB00-4054-9791-8F5B073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AD8-1C3D-48CF-8E1D-F700533C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61C-B851-48A6-B9AC-68AE0BAF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961B-62EC-43B3-AAD8-3CEF8B33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1F1B-B007-4527-B24F-13ACB637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D4B4-181A-4876-9A7D-71354DD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23E2-C4B1-4154-A8DE-423D67D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450-9F8A-47B3-892E-BFCF0A5B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36DC-87A1-4DB8-A344-EA8FE009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2DFA-8DC9-4524-B408-0AB18CA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6D6-E0C5-4096-8893-081C881C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B76F-4987-47EE-B99C-C0D318EB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1369-F518-49E2-B4D7-6E5F5C0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C9B8-A303-444F-8357-F488427C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11E5-36A7-44C6-B122-3E3FF90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5B3-BF0F-4431-847D-360DDC4A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D6828-60BB-4214-81E4-A1A5EDFF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AEC2-0D0C-481A-B1A0-1B1660A2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B57E-5984-47C9-B889-8C76973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1831-ADB6-4DAC-9C5C-74EB7B7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3BAD-929C-45C5-AE34-065B299D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645-F6CB-4BBF-B1C2-57BA8C92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0F01-10FC-4BCA-81AD-89B80D3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EE10-1EE5-4CC5-B556-C31AF99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417A-C659-47D5-A8D9-FAF655F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87B3-0603-4637-8168-5CF02A9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D216-78FC-42CA-B9C5-5A59DBD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DB01-DAE9-4A65-826A-A01F56FC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E51-02CA-4F96-AEBD-A3FA16B4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B6BA-E66D-4EE8-B9DE-AFC4A6AF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C4BE-DC47-49F2-9371-889282F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CC50-A304-47D6-8E34-CD8CC90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583-192D-4787-8309-603CC36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2035-64D5-4EE7-9F29-2FDCAB53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08A4-D23F-4B2B-B15E-F2DA4C5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44F36-C907-42D6-B2D7-D9DE3E1C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7CFB-C1A0-4197-9E74-CCA49CA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7E5D-9E66-4B18-AA3A-4E41A95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7584-776A-47C7-9561-7606EBB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3D8B-E5FB-47BF-B6E8-6E4F08CA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E384-EDF6-4682-9A9C-673094A7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B7BA-26AB-4AEC-9B40-EFAE12E3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1CE-1758-4E5A-A47B-64F341A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589-76EB-4463-8AB6-15E6E26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86E-B4E5-4489-94EC-E14C384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D4E-5067-471C-9003-DAED14E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5F6-4ADB-4E58-9680-437B2099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BAD-F920-49F5-A97C-8C19190622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A12-DA1D-4047-B83B-D0787A06A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21F7-5176-4509-BD47-103C1F3F6A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D2E-E2C3-4978-84D6-FFC506838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8.gi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4.xml"/><Relationship Id="rId3" Type="http://schemas.openxmlformats.org/officeDocument/2006/relationships/image" Target="../media/image24.wm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1828800"/>
            <a:ext cx="6477120" cy="41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华文新魏"/>
                <a:ea typeface="华文新魏"/>
              </a:rPr>
              <a:t>相似三角形的应用</a:t>
            </a:r>
            <a:r>
              <a:rPr b="1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88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r>
              <a:rPr b="1" lang="zh-CN" sz="8800" spc="-1" strike="noStrike" baseline="-25000">
                <a:solidFill>
                  <a:srgbClr val="00ffff"/>
                </a:solidFill>
                <a:latin typeface="华文新魏"/>
                <a:ea typeface="华文新魏"/>
              </a:rPr>
              <a:t>　</a:t>
            </a:r>
            <a:r>
              <a:rPr b="1" lang="zh-CN" sz="8800" spc="-1" strike="noStrike" baseline="-25000">
                <a:solidFill>
                  <a:srgbClr val="800000"/>
                </a:solidFill>
                <a:latin typeface="Times New Roman"/>
                <a:ea typeface="华文新魏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-25000">
                <a:solidFill>
                  <a:srgbClr val="800000"/>
                </a:solidFill>
                <a:latin typeface="Times New Roman"/>
                <a:ea typeface="华文新魏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3341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李文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0720" y="2438280"/>
            <a:ext cx="7619760" cy="2514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67816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物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高 ：物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高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=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影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长 ：影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523880" y="837360"/>
            <a:ext cx="3200400" cy="680760"/>
            <a:chOff x="1523880" y="837360"/>
            <a:chExt cx="3200400" cy="680760"/>
          </a:xfrm>
        </p:grpSpPr>
        <p:sp>
          <p:nvSpPr>
            <p:cNvPr id="246" name=""/>
            <p:cNvSpPr/>
            <p:nvPr/>
          </p:nvSpPr>
          <p:spPr>
            <a:xfrm>
              <a:off x="2293920" y="947520"/>
              <a:ext cx="243036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16200000">
              <a:off x="1607040" y="753480"/>
              <a:ext cx="476280" cy="642960"/>
            </a:xfrm>
            <a:custGeom>
              <a:avLst/>
              <a:gdLst>
                <a:gd name="textAreaLeft" fmla="*/ 158400 w 476280"/>
                <a:gd name="textAreaRight" fmla="*/ 407520 w 476280"/>
                <a:gd name="textAreaTop" fmla="*/ 457200 h 642960"/>
                <a:gd name="textAreaBottom" fmla="*/ 5511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49"/>
                  </a:moveTo>
                  <a:lnTo>
                    <a:pt x="15349" y="18449"/>
                  </a:lnTo>
                  <a:lnTo>
                    <a:pt x="15349" y="7200"/>
                  </a:lnTo>
                  <a:lnTo>
                    <a:pt x="12249" y="7200"/>
                  </a:lnTo>
                  <a:lnTo>
                    <a:pt x="16925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581280" y="1752480"/>
            <a:ext cx="327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测高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14600"/>
            <a:ext cx="7391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测量不能到达顶部的物体的高度，通常用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在同一时刻物高与影长成正比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的原理解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4000" y="260280"/>
            <a:ext cx="8569080" cy="64087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136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变式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某同学想利用树影测量树高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在某一时刻测得小树高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时，其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2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当他测量教学楼旁的一棵大树影长时，因大树靠近教学楼，有一部分影子在墙上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经测量，地面部分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6.4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墙上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4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那么这棵大树高多少米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49160" y="4770360"/>
            <a:ext cx="1600200" cy="459720"/>
            <a:chOff x="749160" y="4770360"/>
            <a:chExt cx="1600200" cy="459720"/>
          </a:xfrm>
        </p:grpSpPr>
        <p:sp>
          <p:nvSpPr>
            <p:cNvPr id="253" name=""/>
            <p:cNvSpPr/>
            <p:nvPr/>
          </p:nvSpPr>
          <p:spPr>
            <a:xfrm flipH="1">
              <a:off x="1054080" y="4948200"/>
              <a:ext cx="1295280" cy="14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160" y="4770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044800" y="436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0800" y="530208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06760" y="4568760"/>
            <a:ext cx="0" cy="7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3160" y="3262320"/>
            <a:ext cx="0" cy="2060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3160" y="3262320"/>
            <a:ext cx="1390680" cy="18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06760" y="4568760"/>
            <a:ext cx="490680" cy="7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36800" y="5300640"/>
            <a:ext cx="1331640" cy="223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639800" y="4843440"/>
            <a:ext cx="247680" cy="1308240"/>
          </a:xfrm>
          <a:custGeom>
            <a:avLst/>
            <a:gdLst>
              <a:gd name="textAreaLeft" fmla="*/ 158400 w 247680"/>
              <a:gd name="textAreaRight" fmla="*/ 248040 w 247680"/>
              <a:gd name="textAreaTop" fmla="*/ 33840 h 1308240"/>
              <a:gd name="textAreaBottom" fmla="*/ 1274400 h 13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6800" y="5518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406760" y="5288040"/>
            <a:ext cx="524160" cy="223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4498200" y="5301000"/>
            <a:ext cx="330120" cy="513000"/>
          </a:xfrm>
          <a:custGeom>
            <a:avLst/>
            <a:gdLst>
              <a:gd name="textAreaLeft" fmla="*/ 210960 w 330120"/>
              <a:gd name="textAreaRight" fmla="*/ 330480 w 33012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6280" y="55576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46280" y="326232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26232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092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41880" y="456876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24320" y="4568760"/>
            <a:ext cx="0" cy="74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3160" y="465300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81400" y="4924440"/>
            <a:ext cx="0" cy="41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00400" y="493884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17960" y="4595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117960" y="5322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0360" y="48639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05160" y="3860640"/>
            <a:ext cx="492120" cy="1482840"/>
            <a:chOff x="2405160" y="3860640"/>
            <a:chExt cx="492120" cy="1482840"/>
          </a:xfrm>
        </p:grpSpPr>
        <p:sp>
          <p:nvSpPr>
            <p:cNvPr id="279" name=""/>
            <p:cNvSpPr/>
            <p:nvPr/>
          </p:nvSpPr>
          <p:spPr>
            <a:xfrm>
              <a:off x="2405160" y="3860640"/>
              <a:ext cx="492120" cy="1482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41600" y="399708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427176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41600" y="451944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1600" y="476712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26920" y="285264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6280" y="52261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89160" y="537228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442120" y="2924280"/>
            <a:ext cx="2895120" cy="2226600"/>
            <a:chOff x="5442120" y="2924280"/>
            <a:chExt cx="2895120" cy="2226600"/>
          </a:xfrm>
        </p:grpSpPr>
        <p:sp>
          <p:nvSpPr>
            <p:cNvPr id="288" name=""/>
            <p:cNvSpPr/>
            <p:nvPr/>
          </p:nvSpPr>
          <p:spPr>
            <a:xfrm>
              <a:off x="5442120" y="2924280"/>
              <a:ext cx="2895120" cy="22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解：作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DE⊥AB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于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∴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AE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∴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AB=8+1.4=9.4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6094440" y="3429000"/>
              <a:ext cx="12254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826920" y="60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物体的影长不等于地上的部分加上墙上的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0920" y="333360"/>
            <a:ext cx="8569080" cy="6264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73408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79640" y="5013360"/>
            <a:ext cx="1291680" cy="1448640"/>
            <a:chOff x="3779640" y="5013360"/>
            <a:chExt cx="1291680" cy="1448640"/>
          </a:xfrm>
        </p:grpSpPr>
        <p:grpSp>
          <p:nvGrpSpPr>
            <p:cNvPr id="294" name=""/>
            <p:cNvGrpSpPr/>
            <p:nvPr/>
          </p:nvGrpSpPr>
          <p:grpSpPr>
            <a:xfrm>
              <a:off x="4356360" y="5013360"/>
              <a:ext cx="714960" cy="1448640"/>
              <a:chOff x="4356360" y="5013360"/>
              <a:chExt cx="714960" cy="1448640"/>
            </a:xfrm>
          </p:grpSpPr>
          <p:sp>
            <p:nvSpPr>
              <p:cNvPr id="295" name=""/>
              <p:cNvSpPr/>
              <p:nvPr/>
            </p:nvSpPr>
            <p:spPr>
              <a:xfrm>
                <a:off x="4521600" y="5013360"/>
                <a:ext cx="0" cy="74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21600" y="5013360"/>
                <a:ext cx="49032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1600" y="5754600"/>
                <a:ext cx="51264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607640" y="5740920"/>
                <a:ext cx="330480" cy="513000"/>
              </a:xfrm>
              <a:custGeom>
                <a:avLst/>
                <a:gdLst>
                  <a:gd name="textAreaLeft" fmla="*/ 211320 w 330480"/>
                  <a:gd name="textAreaRight" fmla="*/ 330840 w 330480"/>
                  <a:gd name="textAreaTop" fmla="*/ 13320 h 513000"/>
                  <a:gd name="textAreaBottom" fmla="*/ 499680 h 51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60760" y="6002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6360" y="5013360"/>
                <a:ext cx="16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38800" y="5013360"/>
                <a:ext cx="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779640" y="50864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16000" y="2422440"/>
            <a:ext cx="492120" cy="3310920"/>
            <a:chOff x="1116000" y="2422440"/>
            <a:chExt cx="492120" cy="3310920"/>
          </a:xfrm>
        </p:grpSpPr>
        <p:sp>
          <p:nvSpPr>
            <p:cNvPr id="304" name=""/>
            <p:cNvSpPr/>
            <p:nvPr/>
          </p:nvSpPr>
          <p:spPr>
            <a:xfrm>
              <a:off x="1116000" y="2422440"/>
              <a:ext cx="492120" cy="331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2440" y="272700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2440" y="334044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52440" y="389340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52440" y="444636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39640" y="2422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76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拓展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知教学楼高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在距教学楼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北面有一建筑物乙，此时教学楼会影响乙的采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48000" y="4078440"/>
            <a:ext cx="720720" cy="1627200"/>
            <a:chOff x="3348000" y="4078440"/>
            <a:chExt cx="720720" cy="1627200"/>
          </a:xfrm>
        </p:grpSpPr>
        <p:sp>
          <p:nvSpPr>
            <p:cNvPr id="312" name=""/>
            <p:cNvSpPr/>
            <p:nvPr/>
          </p:nvSpPr>
          <p:spPr>
            <a:xfrm>
              <a:off x="3348000" y="4510080"/>
              <a:ext cx="492120" cy="1195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9280" y="4078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9280" y="5015160"/>
              <a:ext cx="36036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9280" y="4726080"/>
              <a:ext cx="36036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19280" y="5733720"/>
            <a:ext cx="1728720" cy="809640"/>
            <a:chOff x="1619280" y="5733720"/>
            <a:chExt cx="1728720" cy="809640"/>
          </a:xfrm>
        </p:grpSpPr>
        <p:sp>
          <p:nvSpPr>
            <p:cNvPr id="317" name=""/>
            <p:cNvSpPr/>
            <p:nvPr/>
          </p:nvSpPr>
          <p:spPr>
            <a:xfrm rot="16200000">
              <a:off x="2359800" y="4992840"/>
              <a:ext cx="247320" cy="1728720"/>
            </a:xfrm>
            <a:custGeom>
              <a:avLst/>
              <a:gdLst>
                <a:gd name="textAreaLeft" fmla="*/ 158040 w 247320"/>
                <a:gd name="textAreaRight" fmla="*/ 247680 w 24732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3080" y="6022800"/>
              <a:ext cx="5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7204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27280" y="3357720"/>
            <a:ext cx="1440000" cy="215640"/>
          </a:xfrm>
          <a:prstGeom prst="rightArrow">
            <a:avLst>
              <a:gd name="adj1" fmla="val 50000"/>
              <a:gd name="adj2" fmla="val 1669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109120" y="2133720"/>
            <a:ext cx="3422160" cy="4070880"/>
            <a:chOff x="5109120" y="2133720"/>
            <a:chExt cx="3422160" cy="4070880"/>
          </a:xfrm>
        </p:grpSpPr>
        <p:sp>
          <p:nvSpPr>
            <p:cNvPr id="322" name=""/>
            <p:cNvSpPr/>
            <p:nvPr/>
          </p:nvSpPr>
          <p:spPr>
            <a:xfrm>
              <a:off x="5651280" y="2349720"/>
              <a:ext cx="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5734080"/>
              <a:ext cx="244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51280" y="2349720"/>
              <a:ext cx="244980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2720" y="2133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5640" y="580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28000" y="58057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09120" y="33577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227640" y="58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1640" y="3789360"/>
            <a:ext cx="0" cy="1944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24720" y="443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436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451640" y="5733720"/>
            <a:ext cx="792000" cy="736920"/>
            <a:chOff x="7451640" y="5733720"/>
            <a:chExt cx="792000" cy="736920"/>
          </a:xfrm>
        </p:grpSpPr>
        <p:sp>
          <p:nvSpPr>
            <p:cNvPr id="334" name=""/>
            <p:cNvSpPr/>
            <p:nvPr/>
          </p:nvSpPr>
          <p:spPr>
            <a:xfrm rot="16200000">
              <a:off x="7658640" y="5526360"/>
              <a:ext cx="235080" cy="6494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16920 h 649440"/>
                <a:gd name="textAreaBottom" fmla="*/ 63252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51640" y="5950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50920" y="2422440"/>
            <a:ext cx="4334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6000" y="249408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0920" y="476280"/>
            <a:ext cx="856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92360" y="342900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69228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明要测量一座古塔的高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距他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一小块积水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到塔顶的倒影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知小明的眼部离地面的高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塔底中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积水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距离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求塔高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661680" cy="14414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7308720" y="2421000"/>
            <a:ext cx="1008000" cy="2448000"/>
            <a:chOff x="7308720" y="2421000"/>
            <a:chExt cx="1008000" cy="2448000"/>
          </a:xfrm>
        </p:grpSpPr>
        <p:sp>
          <p:nvSpPr>
            <p:cNvPr id="344" name=""/>
            <p:cNvSpPr/>
            <p:nvPr/>
          </p:nvSpPr>
          <p:spPr>
            <a:xfrm>
              <a:off x="7669080" y="4437000"/>
              <a:ext cx="28728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6000" y="2421000"/>
              <a:ext cx="432000" cy="2232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7596000" y="263700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800000">
              <a:off x="7596000" y="285444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7596000" y="307044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800000">
              <a:off x="7596000" y="3285720"/>
              <a:ext cx="432000" cy="7164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640"/>
                <a:gd name="textAreaBottom" fmla="*/ 5544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800000">
              <a:off x="7538400" y="3500640"/>
              <a:ext cx="576360" cy="71280"/>
            </a:xfrm>
            <a:custGeom>
              <a:avLst/>
              <a:gdLst>
                <a:gd name="textAreaLeft" fmla="*/ 130680 w 576360"/>
                <a:gd name="textAreaRight" fmla="*/ 445680 w 57636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7538400" y="3675240"/>
              <a:ext cx="576360" cy="71280"/>
            </a:xfrm>
            <a:custGeom>
              <a:avLst/>
              <a:gdLst>
                <a:gd name="textAreaLeft" fmla="*/ 130680 w 576360"/>
                <a:gd name="textAreaRight" fmla="*/ 445680 w 57636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800000">
              <a:off x="7453080" y="3862440"/>
              <a:ext cx="719280" cy="71280"/>
            </a:xfrm>
            <a:custGeom>
              <a:avLst/>
              <a:gdLst>
                <a:gd name="textAreaLeft" fmla="*/ 163080 w 719280"/>
                <a:gd name="textAreaRight" fmla="*/ 556200 w 71928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0800000">
              <a:off x="7396200" y="4076280"/>
              <a:ext cx="877680" cy="73080"/>
            </a:xfrm>
            <a:custGeom>
              <a:avLst/>
              <a:gdLst>
                <a:gd name="textAreaLeft" fmla="*/ 199080 w 877680"/>
                <a:gd name="textAreaRight" fmla="*/ 678600 w 877680"/>
                <a:gd name="textAreaTop" fmla="*/ 16560 h 73080"/>
                <a:gd name="textAreaBottom" fmla="*/ 565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7308720" y="4292280"/>
              <a:ext cx="1008000" cy="73080"/>
            </a:xfrm>
            <a:custGeom>
              <a:avLst/>
              <a:gdLst>
                <a:gd name="textAreaLeft" fmla="*/ 228600 w 1008000"/>
                <a:gd name="textAreaRight" fmla="*/ 779400 w 1008000"/>
                <a:gd name="textAreaTop" fmla="*/ 16560 h 73080"/>
                <a:gd name="textAreaBottom" fmla="*/ 565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664400" y="482616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21320" y="4795920"/>
            <a:ext cx="590400" cy="71280"/>
          </a:xfrm>
          <a:prstGeom prst="cloudCallout">
            <a:avLst>
              <a:gd name="adj1" fmla="val 30912"/>
              <a:gd name="adj2" fmla="val -23888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76720" y="4148280"/>
            <a:ext cx="0" cy="7207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51640" y="4776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06880" y="3798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76720" y="4149720"/>
            <a:ext cx="647640" cy="64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7440" y="2420640"/>
            <a:ext cx="2016360" cy="23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4869000"/>
            <a:ext cx="4392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2960" y="4941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608600" y="206064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48920" y="486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606320" cy="8478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187280" y="4653000"/>
            <a:ext cx="1225800" cy="7905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826920" y="5516640"/>
            <a:ext cx="1775160" cy="468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00000" y="595008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塔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</a:rPr>
              <a:t>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:∵∠DEC=∠ABC=90°                             ∠DCE=∠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  ∴△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C∽△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544500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里运用了物理中哪个原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08160" y="3016080"/>
            <a:ext cx="1512720" cy="194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362560" y="2776680"/>
            <a:ext cx="2592360" cy="19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4686480"/>
            <a:ext cx="69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2776680"/>
            <a:ext cx="0" cy="1909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96560" y="2346120"/>
            <a:ext cx="3498120" cy="2338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35280" y="46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78040" y="46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81280" y="30481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86480" y="470700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419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050920" y="3573000"/>
            <a:ext cx="1757520" cy="1087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78400" y="4681440"/>
            <a:ext cx="502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3760" y="1628640"/>
            <a:ext cx="93024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035080" y="3573360"/>
            <a:ext cx="0" cy="112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419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981080" y="2819160"/>
            <a:ext cx="4651200" cy="1876680"/>
            <a:chOff x="1981080" y="2819160"/>
            <a:chExt cx="4651200" cy="1876680"/>
          </a:xfrm>
        </p:grpSpPr>
        <p:sp>
          <p:nvSpPr>
            <p:cNvPr id="390" name=""/>
            <p:cNvSpPr/>
            <p:nvPr/>
          </p:nvSpPr>
          <p:spPr>
            <a:xfrm rot="16200000">
              <a:off x="4284360" y="2342880"/>
              <a:ext cx="1871640" cy="2823840"/>
            </a:xfrm>
            <a:prstGeom prst="rtTriangl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565800"/>
              <a:ext cx="1803600" cy="1130040"/>
            </a:xfrm>
            <a:prstGeom prst="rtTriangl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>
            <a:off x="3809880" y="3284640"/>
            <a:ext cx="12960" cy="13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1066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还可以有其他方法测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523880" y="685800"/>
            <a:ext cx="2895480" cy="871200"/>
            <a:chOff x="1523880" y="685800"/>
            <a:chExt cx="2895480" cy="871200"/>
          </a:xfrm>
        </p:grpSpPr>
        <p:sp>
          <p:nvSpPr>
            <p:cNvPr id="395" name=""/>
            <p:cNvSpPr/>
            <p:nvPr/>
          </p:nvSpPr>
          <p:spPr>
            <a:xfrm>
              <a:off x="1523880" y="914400"/>
              <a:ext cx="243828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3733560" y="685800"/>
              <a:ext cx="68580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未知"/>
          <p:cNvSpPr/>
          <p:nvPr/>
        </p:nvSpPr>
        <p:spPr>
          <a:xfrm flipV="1" rot="20421000">
            <a:off x="4114440" y="4418640"/>
            <a:ext cx="266760" cy="2667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12"/>
                  <a:pt x="88" y="24"/>
                  <a:pt x="96" y="48"/>
                </a:cubicBezTo>
                <a:cubicBezTo>
                  <a:pt x="104" y="72"/>
                  <a:pt x="76" y="108"/>
                  <a:pt x="48" y="14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未知"/>
          <p:cNvSpPr/>
          <p:nvPr/>
        </p:nvSpPr>
        <p:spPr>
          <a:xfrm rot="12088800">
            <a:off x="3295080" y="4411080"/>
            <a:ext cx="15228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12"/>
                  <a:pt x="88" y="24"/>
                  <a:pt x="96" y="48"/>
                </a:cubicBezTo>
                <a:cubicBezTo>
                  <a:pt x="104" y="72"/>
                  <a:pt x="76" y="108"/>
                  <a:pt x="48" y="14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780000" y="5154480"/>
            <a:ext cx="1676160" cy="1054080"/>
            <a:chOff x="3780000" y="5154480"/>
            <a:chExt cx="1676160" cy="1054080"/>
          </a:xfrm>
        </p:grpSpPr>
        <p:sp>
          <p:nvSpPr>
            <p:cNvPr id="400" name=""/>
            <p:cNvSpPr/>
            <p:nvPr/>
          </p:nvSpPr>
          <p:spPr>
            <a:xfrm>
              <a:off x="3780000" y="51544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0000" y="5688000"/>
              <a:ext cx="55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0000" y="5688000"/>
              <a:ext cx="81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465800" y="54594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045040" y="5172120"/>
            <a:ext cx="1000080" cy="1036440"/>
            <a:chOff x="5045040" y="5172120"/>
            <a:chExt cx="1000080" cy="1036440"/>
          </a:xfrm>
        </p:grpSpPr>
        <p:sp>
          <p:nvSpPr>
            <p:cNvPr id="405" name=""/>
            <p:cNvSpPr/>
            <p:nvPr/>
          </p:nvSpPr>
          <p:spPr>
            <a:xfrm>
              <a:off x="5045040" y="517212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5280" y="5688000"/>
              <a:ext cx="96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75280" y="5688000"/>
              <a:ext cx="55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96720" y="54007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∽△A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16240" y="5705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88040" y="54770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5705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086600" y="5257800"/>
            <a:ext cx="2057400" cy="968400"/>
            <a:chOff x="7086600" y="5257800"/>
            <a:chExt cx="2057400" cy="968400"/>
          </a:xfrm>
        </p:grpSpPr>
        <p:sp>
          <p:nvSpPr>
            <p:cNvPr id="413" name=""/>
            <p:cNvSpPr/>
            <p:nvPr/>
          </p:nvSpPr>
          <p:spPr>
            <a:xfrm>
              <a:off x="7086600" y="52578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A · 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9640" y="570564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57816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00400" y="4038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平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3240" y="1484280"/>
            <a:ext cx="1832040" cy="2449440"/>
            <a:chOff x="3240" y="1484280"/>
            <a:chExt cx="1832040" cy="244944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468360" y="2421000"/>
              <a:ext cx="13669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240" y="1484280"/>
              <a:ext cx="1255680" cy="24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5183280" cy="3611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300720" y="1052640"/>
            <a:ext cx="0" cy="23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059280" y="3429000"/>
            <a:ext cx="3241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547280" y="3429000"/>
            <a:ext cx="151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2565360"/>
            <a:ext cx="158292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059280" y="1052280"/>
            <a:ext cx="3241440" cy="2376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4149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一小镜子放在离树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的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，然后沿着直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退到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这时恰好在镜子里看到树梢顶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再用皮尺量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E=2.8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观察者目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=1.6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时树高多少？你能解决这个问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53640" y="517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7416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81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6108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944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457200"/>
            <a:ext cx="1066680" cy="5335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22860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在河的这一边选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⊥B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选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C⊥B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视线确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交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时如果测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=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DC=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EC=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两岸间的大致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267080" y="3809880"/>
            <a:ext cx="4114800" cy="22860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267080" y="5181480"/>
            <a:ext cx="4191120" cy="22860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4572000" y="43434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7238880" y="42670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未知"/>
          <p:cNvSpPr/>
          <p:nvPr/>
        </p:nvSpPr>
        <p:spPr>
          <a:xfrm>
            <a:off x="7620120" y="48006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6095880" y="44956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未知"/>
          <p:cNvSpPr/>
          <p:nvPr/>
        </p:nvSpPr>
        <p:spPr>
          <a:xfrm>
            <a:off x="6019920" y="47242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未知"/>
          <p:cNvSpPr/>
          <p:nvPr/>
        </p:nvSpPr>
        <p:spPr>
          <a:xfrm>
            <a:off x="5638680" y="42670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未知"/>
          <p:cNvSpPr/>
          <p:nvPr/>
        </p:nvSpPr>
        <p:spPr>
          <a:xfrm>
            <a:off x="4724280" y="44956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未知"/>
          <p:cNvSpPr/>
          <p:nvPr/>
        </p:nvSpPr>
        <p:spPr>
          <a:xfrm>
            <a:off x="5029200" y="48006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7238880" y="4572000"/>
            <a:ext cx="53352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19720" y="3733560"/>
            <a:ext cx="228600" cy="1904760"/>
            <a:chOff x="4419720" y="3733560"/>
            <a:chExt cx="228600" cy="1904760"/>
          </a:xfrm>
        </p:grpSpPr>
        <p:sp>
          <p:nvSpPr>
            <p:cNvPr id="446" name=""/>
            <p:cNvSpPr/>
            <p:nvPr/>
          </p:nvSpPr>
          <p:spPr>
            <a:xfrm>
              <a:off x="4419720" y="5410080"/>
              <a:ext cx="228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19720" y="3733560"/>
              <a:ext cx="228600" cy="1904760"/>
              <a:chOff x="4419720" y="3733560"/>
              <a:chExt cx="228600" cy="190476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4419720" y="37335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8320" y="5410080"/>
                <a:ext cx="0" cy="2282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419112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70320" y="5410080"/>
            <a:ext cx="4481280" cy="612000"/>
            <a:chOff x="4270320" y="5410080"/>
            <a:chExt cx="4481280" cy="612000"/>
          </a:xfrm>
        </p:grpSpPr>
        <p:sp>
          <p:nvSpPr>
            <p:cNvPr id="452" name=""/>
            <p:cNvSpPr/>
            <p:nvPr/>
          </p:nvSpPr>
          <p:spPr>
            <a:xfrm>
              <a:off x="4419360" y="563868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0320" y="55623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5120" y="5410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419720" y="3733920"/>
            <a:ext cx="3886200" cy="2666880"/>
            <a:chOff x="4419720" y="3733920"/>
            <a:chExt cx="3886200" cy="2666880"/>
          </a:xfrm>
        </p:grpSpPr>
        <p:sp>
          <p:nvSpPr>
            <p:cNvPr id="456" name=""/>
            <p:cNvSpPr/>
            <p:nvPr/>
          </p:nvSpPr>
          <p:spPr>
            <a:xfrm>
              <a:off x="4419720" y="3733920"/>
              <a:ext cx="388620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19640" y="563904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8153280" y="5638680"/>
            <a:ext cx="609480" cy="916920"/>
            <a:chOff x="8153280" y="5638680"/>
            <a:chExt cx="609480" cy="916920"/>
          </a:xfrm>
        </p:grpSpPr>
        <p:sp>
          <p:nvSpPr>
            <p:cNvPr id="459" name=""/>
            <p:cNvSpPr/>
            <p:nvPr/>
          </p:nvSpPr>
          <p:spPr>
            <a:xfrm>
              <a:off x="8153280" y="5638680"/>
              <a:ext cx="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8153280" y="5638680"/>
              <a:ext cx="609480" cy="916920"/>
              <a:chOff x="8153280" y="5638680"/>
              <a:chExt cx="609480" cy="916920"/>
            </a:xfrm>
          </p:grpSpPr>
          <p:sp>
            <p:nvSpPr>
              <p:cNvPr id="461" name=""/>
              <p:cNvSpPr/>
              <p:nvPr/>
            </p:nvSpPr>
            <p:spPr>
              <a:xfrm>
                <a:off x="8305560" y="56386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53280" y="5790960"/>
                <a:ext cx="152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05560" y="609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0" y="518148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840200"/>
            <a:ext cx="297180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886200" cy="30448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4080" y="37339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228600" y="228600"/>
            <a:ext cx="990720" cy="579600"/>
            <a:chOff x="228600" y="228600"/>
            <a:chExt cx="990720" cy="579600"/>
          </a:xfrm>
        </p:grpSpPr>
        <p:sp>
          <p:nvSpPr>
            <p:cNvPr id="470" name=""/>
            <p:cNvSpPr/>
            <p:nvPr/>
          </p:nvSpPr>
          <p:spPr>
            <a:xfrm>
              <a:off x="228600" y="228600"/>
              <a:ext cx="990720" cy="4518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9160" y="228600"/>
              <a:ext cx="849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5800" y="228600"/>
            <a:ext cx="80773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方法一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在河的这一边选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⊥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选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⊥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视线确定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交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时如果测得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1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两岸间的大致距离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未知"/>
          <p:cNvSpPr/>
          <p:nvPr/>
        </p:nvSpPr>
        <p:spPr>
          <a:xfrm>
            <a:off x="5091120" y="3227400"/>
            <a:ext cx="3394080" cy="16524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未知"/>
          <p:cNvSpPr/>
          <p:nvPr/>
        </p:nvSpPr>
        <p:spPr>
          <a:xfrm>
            <a:off x="5091120" y="4219560"/>
            <a:ext cx="3456000" cy="16668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未知"/>
          <p:cNvSpPr/>
          <p:nvPr/>
        </p:nvSpPr>
        <p:spPr>
          <a:xfrm>
            <a:off x="5343480" y="3613320"/>
            <a:ext cx="566640" cy="6480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未知"/>
          <p:cNvSpPr/>
          <p:nvPr/>
        </p:nvSpPr>
        <p:spPr>
          <a:xfrm>
            <a:off x="7542360" y="3557520"/>
            <a:ext cx="56664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未知"/>
          <p:cNvSpPr/>
          <p:nvPr/>
        </p:nvSpPr>
        <p:spPr>
          <a:xfrm>
            <a:off x="7856640" y="3944880"/>
            <a:ext cx="56664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6600960" y="3724200"/>
            <a:ext cx="56484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未知"/>
          <p:cNvSpPr/>
          <p:nvPr/>
        </p:nvSpPr>
        <p:spPr>
          <a:xfrm>
            <a:off x="6537240" y="3889440"/>
            <a:ext cx="565200" cy="633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未知"/>
          <p:cNvSpPr/>
          <p:nvPr/>
        </p:nvSpPr>
        <p:spPr>
          <a:xfrm>
            <a:off x="6224760" y="3557520"/>
            <a:ext cx="56340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未知"/>
          <p:cNvSpPr/>
          <p:nvPr/>
        </p:nvSpPr>
        <p:spPr>
          <a:xfrm>
            <a:off x="5468760" y="3724200"/>
            <a:ext cx="56520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未知"/>
          <p:cNvSpPr/>
          <p:nvPr/>
        </p:nvSpPr>
        <p:spPr>
          <a:xfrm>
            <a:off x="5719680" y="3944880"/>
            <a:ext cx="56700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未知"/>
          <p:cNvSpPr/>
          <p:nvPr/>
        </p:nvSpPr>
        <p:spPr>
          <a:xfrm>
            <a:off x="7542360" y="3778200"/>
            <a:ext cx="44100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18200" y="4551480"/>
            <a:ext cx="32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218200" y="3171960"/>
            <a:ext cx="0" cy="137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18200" y="3171960"/>
            <a:ext cx="3205080" cy="19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423280" y="4551480"/>
            <a:ext cx="0" cy="55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18200" y="4386240"/>
            <a:ext cx="1872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5400" y="4386240"/>
            <a:ext cx="0" cy="165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98000" y="4551480"/>
            <a:ext cx="0" cy="1108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98000" y="4662360"/>
            <a:ext cx="125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27432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94360" y="4495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489160" y="4384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63080" y="45529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23280" y="488304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2438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3276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2438280"/>
            <a:ext cx="4724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∵</a:t>
            </a:r>
            <a:r>
              <a:rPr b="1" i="1" lang="zh-CN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DB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 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C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∠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CD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=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90</a:t>
            </a:r>
            <a:r>
              <a:rPr b="1" i="1" lang="en-US" sz="2400" spc="-1" strike="noStrike" baseline="30000">
                <a:solidFill>
                  <a:srgbClr val="800000"/>
                </a:solidFill>
                <a:latin typeface="Comic Sans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∴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△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D ∽ △EC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∴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︰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C=BD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︰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∴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BD×EC/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120×50/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100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答：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两岸间的大致距离为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100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248520" y="5181480"/>
            <a:ext cx="1981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3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3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3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3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57200" y="3808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方法二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们还可以在河对岸选定一目标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再在河的一边选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⊥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然后，再选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与视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交于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此时，测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 , BC, BD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就可以求两岸间的大致距离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57200" y="2590920"/>
            <a:ext cx="4105440" cy="1594800"/>
            <a:chOff x="457200" y="2590920"/>
            <a:chExt cx="4105440" cy="1594800"/>
          </a:xfrm>
        </p:grpSpPr>
        <p:sp>
          <p:nvSpPr>
            <p:cNvPr id="503" name="未知"/>
            <p:cNvSpPr/>
            <p:nvPr/>
          </p:nvSpPr>
          <p:spPr>
            <a:xfrm>
              <a:off x="514440" y="2628720"/>
              <a:ext cx="4048200" cy="1545840"/>
            </a:xfrm>
            <a:custGeom>
              <a:avLst/>
              <a:gdLst/>
              <a:ahLst/>
              <a:rect l="l" t="t" r="r" b="b"/>
              <a:pathLst>
                <a:path w="10204" h="3898">
                  <a:moveTo>
                    <a:pt x="9020" y="76"/>
                  </a:moveTo>
                  <a:lnTo>
                    <a:pt x="9022" y="92"/>
                  </a:lnTo>
                  <a:lnTo>
                    <a:pt x="9032" y="192"/>
                  </a:lnTo>
                  <a:lnTo>
                    <a:pt x="9033" y="206"/>
                  </a:lnTo>
                  <a:lnTo>
                    <a:pt x="9036" y="222"/>
                  </a:lnTo>
                  <a:lnTo>
                    <a:pt x="8377" y="277"/>
                  </a:lnTo>
                  <a:lnTo>
                    <a:pt x="8378" y="290"/>
                  </a:lnTo>
                  <a:lnTo>
                    <a:pt x="7884" y="333"/>
                  </a:lnTo>
                  <a:lnTo>
                    <a:pt x="7877" y="263"/>
                  </a:lnTo>
                  <a:lnTo>
                    <a:pt x="7871" y="214"/>
                  </a:lnTo>
                  <a:lnTo>
                    <a:pt x="7638" y="221"/>
                  </a:lnTo>
                  <a:lnTo>
                    <a:pt x="7407" y="231"/>
                  </a:lnTo>
                  <a:lnTo>
                    <a:pt x="7404" y="197"/>
                  </a:lnTo>
                  <a:lnTo>
                    <a:pt x="7168" y="189"/>
                  </a:lnTo>
                  <a:lnTo>
                    <a:pt x="6934" y="188"/>
                  </a:lnTo>
                  <a:lnTo>
                    <a:pt x="6611" y="190"/>
                  </a:lnTo>
                  <a:lnTo>
                    <a:pt x="6289" y="199"/>
                  </a:lnTo>
                  <a:lnTo>
                    <a:pt x="5967" y="212"/>
                  </a:lnTo>
                  <a:lnTo>
                    <a:pt x="5646" y="232"/>
                  </a:lnTo>
                  <a:lnTo>
                    <a:pt x="5645" y="232"/>
                  </a:lnTo>
                  <a:lnTo>
                    <a:pt x="5645" y="233"/>
                  </a:lnTo>
                  <a:lnTo>
                    <a:pt x="5645" y="235"/>
                  </a:lnTo>
                  <a:lnTo>
                    <a:pt x="5645" y="238"/>
                  </a:lnTo>
                  <a:lnTo>
                    <a:pt x="5645" y="240"/>
                  </a:lnTo>
                  <a:lnTo>
                    <a:pt x="5549" y="271"/>
                  </a:lnTo>
                  <a:lnTo>
                    <a:pt x="5455" y="304"/>
                  </a:lnTo>
                  <a:lnTo>
                    <a:pt x="5362" y="339"/>
                  </a:lnTo>
                  <a:lnTo>
                    <a:pt x="5271" y="378"/>
                  </a:lnTo>
                  <a:lnTo>
                    <a:pt x="5266" y="380"/>
                  </a:lnTo>
                  <a:lnTo>
                    <a:pt x="5265" y="385"/>
                  </a:lnTo>
                  <a:lnTo>
                    <a:pt x="5264" y="393"/>
                  </a:lnTo>
                  <a:lnTo>
                    <a:pt x="5266" y="404"/>
                  </a:lnTo>
                  <a:lnTo>
                    <a:pt x="5267" y="421"/>
                  </a:lnTo>
                  <a:lnTo>
                    <a:pt x="5047" y="450"/>
                  </a:lnTo>
                  <a:lnTo>
                    <a:pt x="4829" y="483"/>
                  </a:lnTo>
                  <a:lnTo>
                    <a:pt x="4809" y="484"/>
                  </a:lnTo>
                  <a:lnTo>
                    <a:pt x="4781" y="456"/>
                  </a:lnTo>
                  <a:lnTo>
                    <a:pt x="4753" y="431"/>
                  </a:lnTo>
                  <a:lnTo>
                    <a:pt x="4724" y="407"/>
                  </a:lnTo>
                  <a:lnTo>
                    <a:pt x="4695" y="386"/>
                  </a:lnTo>
                  <a:lnTo>
                    <a:pt x="4663" y="365"/>
                  </a:lnTo>
                  <a:lnTo>
                    <a:pt x="4632" y="346"/>
                  </a:lnTo>
                  <a:lnTo>
                    <a:pt x="4599" y="329"/>
                  </a:lnTo>
                  <a:lnTo>
                    <a:pt x="4567" y="315"/>
                  </a:lnTo>
                  <a:lnTo>
                    <a:pt x="4563" y="312"/>
                  </a:lnTo>
                  <a:lnTo>
                    <a:pt x="4560" y="309"/>
                  </a:lnTo>
                  <a:lnTo>
                    <a:pt x="4558" y="303"/>
                  </a:lnTo>
                  <a:lnTo>
                    <a:pt x="4558" y="296"/>
                  </a:lnTo>
                  <a:lnTo>
                    <a:pt x="4151" y="333"/>
                  </a:lnTo>
                  <a:lnTo>
                    <a:pt x="4123" y="318"/>
                  </a:lnTo>
                  <a:lnTo>
                    <a:pt x="4100" y="303"/>
                  </a:lnTo>
                  <a:lnTo>
                    <a:pt x="4095" y="298"/>
                  </a:lnTo>
                  <a:lnTo>
                    <a:pt x="4092" y="293"/>
                  </a:lnTo>
                  <a:lnTo>
                    <a:pt x="4089" y="279"/>
                  </a:lnTo>
                  <a:lnTo>
                    <a:pt x="3956" y="286"/>
                  </a:lnTo>
                  <a:lnTo>
                    <a:pt x="3886" y="282"/>
                  </a:lnTo>
                  <a:lnTo>
                    <a:pt x="3816" y="277"/>
                  </a:lnTo>
                  <a:lnTo>
                    <a:pt x="3748" y="270"/>
                  </a:lnTo>
                  <a:lnTo>
                    <a:pt x="3680" y="261"/>
                  </a:lnTo>
                  <a:lnTo>
                    <a:pt x="3589" y="246"/>
                  </a:lnTo>
                  <a:lnTo>
                    <a:pt x="3500" y="233"/>
                  </a:lnTo>
                  <a:lnTo>
                    <a:pt x="3319" y="211"/>
                  </a:lnTo>
                  <a:lnTo>
                    <a:pt x="3228" y="200"/>
                  </a:lnTo>
                  <a:lnTo>
                    <a:pt x="3138" y="191"/>
                  </a:lnTo>
                  <a:lnTo>
                    <a:pt x="3046" y="183"/>
                  </a:lnTo>
                  <a:lnTo>
                    <a:pt x="2956" y="177"/>
                  </a:lnTo>
                  <a:lnTo>
                    <a:pt x="2771" y="165"/>
                  </a:lnTo>
                  <a:lnTo>
                    <a:pt x="2587" y="158"/>
                  </a:lnTo>
                  <a:lnTo>
                    <a:pt x="2400" y="154"/>
                  </a:lnTo>
                  <a:lnTo>
                    <a:pt x="2213" y="155"/>
                  </a:lnTo>
                  <a:lnTo>
                    <a:pt x="2118" y="155"/>
                  </a:lnTo>
                  <a:lnTo>
                    <a:pt x="2024" y="157"/>
                  </a:lnTo>
                  <a:lnTo>
                    <a:pt x="1928" y="160"/>
                  </a:lnTo>
                  <a:lnTo>
                    <a:pt x="1834" y="165"/>
                  </a:lnTo>
                  <a:lnTo>
                    <a:pt x="1738" y="169"/>
                  </a:lnTo>
                  <a:lnTo>
                    <a:pt x="1642" y="175"/>
                  </a:lnTo>
                  <a:lnTo>
                    <a:pt x="1546" y="182"/>
                  </a:lnTo>
                  <a:lnTo>
                    <a:pt x="1451" y="191"/>
                  </a:lnTo>
                  <a:lnTo>
                    <a:pt x="1256" y="209"/>
                  </a:lnTo>
                  <a:lnTo>
                    <a:pt x="1061" y="232"/>
                  </a:lnTo>
                  <a:lnTo>
                    <a:pt x="963" y="244"/>
                  </a:lnTo>
                  <a:lnTo>
                    <a:pt x="865" y="258"/>
                  </a:lnTo>
                  <a:lnTo>
                    <a:pt x="669" y="289"/>
                  </a:lnTo>
                  <a:lnTo>
                    <a:pt x="669" y="296"/>
                  </a:lnTo>
                  <a:lnTo>
                    <a:pt x="669" y="302"/>
                  </a:lnTo>
                  <a:lnTo>
                    <a:pt x="667" y="306"/>
                  </a:lnTo>
                  <a:lnTo>
                    <a:pt x="665" y="309"/>
                  </a:lnTo>
                  <a:lnTo>
                    <a:pt x="631" y="327"/>
                  </a:lnTo>
                  <a:lnTo>
                    <a:pt x="597" y="345"/>
                  </a:lnTo>
                  <a:lnTo>
                    <a:pt x="563" y="363"/>
                  </a:lnTo>
                  <a:lnTo>
                    <a:pt x="546" y="371"/>
                  </a:lnTo>
                  <a:lnTo>
                    <a:pt x="530" y="380"/>
                  </a:lnTo>
                  <a:lnTo>
                    <a:pt x="512" y="387"/>
                  </a:lnTo>
                  <a:lnTo>
                    <a:pt x="495" y="395"/>
                  </a:lnTo>
                  <a:lnTo>
                    <a:pt x="461" y="411"/>
                  </a:lnTo>
                  <a:lnTo>
                    <a:pt x="426" y="425"/>
                  </a:lnTo>
                  <a:lnTo>
                    <a:pt x="392" y="440"/>
                  </a:lnTo>
                  <a:lnTo>
                    <a:pt x="319" y="465"/>
                  </a:lnTo>
                  <a:lnTo>
                    <a:pt x="247" y="488"/>
                  </a:lnTo>
                  <a:lnTo>
                    <a:pt x="173" y="507"/>
                  </a:lnTo>
                  <a:lnTo>
                    <a:pt x="135" y="515"/>
                  </a:lnTo>
                  <a:lnTo>
                    <a:pt x="116" y="519"/>
                  </a:lnTo>
                  <a:lnTo>
                    <a:pt x="98" y="524"/>
                  </a:lnTo>
                  <a:lnTo>
                    <a:pt x="96" y="525"/>
                  </a:lnTo>
                  <a:lnTo>
                    <a:pt x="96" y="530"/>
                  </a:lnTo>
                  <a:lnTo>
                    <a:pt x="96" y="537"/>
                  </a:lnTo>
                  <a:lnTo>
                    <a:pt x="98" y="549"/>
                  </a:lnTo>
                  <a:lnTo>
                    <a:pt x="103" y="598"/>
                  </a:lnTo>
                  <a:lnTo>
                    <a:pt x="139" y="943"/>
                  </a:lnTo>
                  <a:lnTo>
                    <a:pt x="147" y="1016"/>
                  </a:lnTo>
                  <a:lnTo>
                    <a:pt x="34" y="1050"/>
                  </a:lnTo>
                  <a:lnTo>
                    <a:pt x="114" y="1812"/>
                  </a:lnTo>
                  <a:lnTo>
                    <a:pt x="98" y="1813"/>
                  </a:lnTo>
                  <a:lnTo>
                    <a:pt x="100" y="1830"/>
                  </a:lnTo>
                  <a:lnTo>
                    <a:pt x="132" y="2147"/>
                  </a:lnTo>
                  <a:lnTo>
                    <a:pt x="0" y="2157"/>
                  </a:lnTo>
                  <a:lnTo>
                    <a:pt x="2" y="2173"/>
                  </a:lnTo>
                  <a:lnTo>
                    <a:pt x="77" y="2881"/>
                  </a:lnTo>
                  <a:lnTo>
                    <a:pt x="78" y="2896"/>
                  </a:lnTo>
                  <a:lnTo>
                    <a:pt x="79" y="2904"/>
                  </a:lnTo>
                  <a:lnTo>
                    <a:pt x="81" y="2913"/>
                  </a:lnTo>
                  <a:lnTo>
                    <a:pt x="85" y="2963"/>
                  </a:lnTo>
                  <a:lnTo>
                    <a:pt x="156" y="3636"/>
                  </a:lnTo>
                  <a:lnTo>
                    <a:pt x="161" y="3685"/>
                  </a:lnTo>
                  <a:lnTo>
                    <a:pt x="308" y="3669"/>
                  </a:lnTo>
                  <a:lnTo>
                    <a:pt x="316" y="3746"/>
                  </a:lnTo>
                  <a:lnTo>
                    <a:pt x="688" y="3754"/>
                  </a:lnTo>
                  <a:lnTo>
                    <a:pt x="874" y="3756"/>
                  </a:lnTo>
                  <a:lnTo>
                    <a:pt x="1062" y="3757"/>
                  </a:lnTo>
                  <a:lnTo>
                    <a:pt x="1249" y="3756"/>
                  </a:lnTo>
                  <a:lnTo>
                    <a:pt x="1438" y="3754"/>
                  </a:lnTo>
                  <a:lnTo>
                    <a:pt x="1626" y="3750"/>
                  </a:lnTo>
                  <a:lnTo>
                    <a:pt x="1816" y="3745"/>
                  </a:lnTo>
                  <a:lnTo>
                    <a:pt x="2005" y="3738"/>
                  </a:lnTo>
                  <a:lnTo>
                    <a:pt x="2194" y="3730"/>
                  </a:lnTo>
                  <a:lnTo>
                    <a:pt x="2385" y="3720"/>
                  </a:lnTo>
                  <a:lnTo>
                    <a:pt x="2577" y="3708"/>
                  </a:lnTo>
                  <a:lnTo>
                    <a:pt x="2767" y="3695"/>
                  </a:lnTo>
                  <a:lnTo>
                    <a:pt x="2960" y="3681"/>
                  </a:lnTo>
                  <a:lnTo>
                    <a:pt x="3347" y="3649"/>
                  </a:lnTo>
                  <a:lnTo>
                    <a:pt x="3381" y="3680"/>
                  </a:lnTo>
                  <a:lnTo>
                    <a:pt x="3412" y="3713"/>
                  </a:lnTo>
                  <a:lnTo>
                    <a:pt x="3419" y="3725"/>
                  </a:lnTo>
                  <a:lnTo>
                    <a:pt x="3421" y="3732"/>
                  </a:lnTo>
                  <a:lnTo>
                    <a:pt x="3424" y="3741"/>
                  </a:lnTo>
                  <a:lnTo>
                    <a:pt x="3490" y="3752"/>
                  </a:lnTo>
                  <a:lnTo>
                    <a:pt x="3556" y="3769"/>
                  </a:lnTo>
                  <a:lnTo>
                    <a:pt x="3556" y="3768"/>
                  </a:lnTo>
                  <a:lnTo>
                    <a:pt x="3557" y="3770"/>
                  </a:lnTo>
                  <a:lnTo>
                    <a:pt x="3559" y="3777"/>
                  </a:lnTo>
                  <a:lnTo>
                    <a:pt x="3564" y="3810"/>
                  </a:lnTo>
                  <a:lnTo>
                    <a:pt x="3568" y="3859"/>
                  </a:lnTo>
                  <a:lnTo>
                    <a:pt x="3685" y="3864"/>
                  </a:lnTo>
                  <a:lnTo>
                    <a:pt x="3801" y="3872"/>
                  </a:lnTo>
                  <a:lnTo>
                    <a:pt x="3858" y="3876"/>
                  </a:lnTo>
                  <a:lnTo>
                    <a:pt x="3917" y="3882"/>
                  </a:lnTo>
                  <a:lnTo>
                    <a:pt x="4033" y="3895"/>
                  </a:lnTo>
                  <a:lnTo>
                    <a:pt x="4068" y="3897"/>
                  </a:lnTo>
                  <a:lnTo>
                    <a:pt x="4085" y="3897"/>
                  </a:lnTo>
                  <a:lnTo>
                    <a:pt x="4103" y="3898"/>
                  </a:lnTo>
                  <a:lnTo>
                    <a:pt x="4119" y="3897"/>
                  </a:lnTo>
                  <a:lnTo>
                    <a:pt x="4136" y="3897"/>
                  </a:lnTo>
                  <a:lnTo>
                    <a:pt x="4171" y="3895"/>
                  </a:lnTo>
                  <a:lnTo>
                    <a:pt x="4877" y="3822"/>
                  </a:lnTo>
                  <a:lnTo>
                    <a:pt x="5584" y="3748"/>
                  </a:lnTo>
                  <a:lnTo>
                    <a:pt x="6290" y="3670"/>
                  </a:lnTo>
                  <a:lnTo>
                    <a:pt x="6999" y="3592"/>
                  </a:lnTo>
                  <a:lnTo>
                    <a:pt x="7063" y="3595"/>
                  </a:lnTo>
                  <a:lnTo>
                    <a:pt x="7068" y="3641"/>
                  </a:lnTo>
                  <a:lnTo>
                    <a:pt x="7072" y="3690"/>
                  </a:lnTo>
                  <a:lnTo>
                    <a:pt x="7385" y="3654"/>
                  </a:lnTo>
                  <a:lnTo>
                    <a:pt x="7537" y="3672"/>
                  </a:lnTo>
                  <a:lnTo>
                    <a:pt x="7541" y="3707"/>
                  </a:lnTo>
                  <a:lnTo>
                    <a:pt x="7745" y="3689"/>
                  </a:lnTo>
                  <a:lnTo>
                    <a:pt x="7875" y="3694"/>
                  </a:lnTo>
                  <a:lnTo>
                    <a:pt x="8006" y="3696"/>
                  </a:lnTo>
                  <a:lnTo>
                    <a:pt x="8136" y="3694"/>
                  </a:lnTo>
                  <a:lnTo>
                    <a:pt x="8267" y="3688"/>
                  </a:lnTo>
                  <a:lnTo>
                    <a:pt x="8395" y="3678"/>
                  </a:lnTo>
                  <a:lnTo>
                    <a:pt x="8526" y="3664"/>
                  </a:lnTo>
                  <a:lnTo>
                    <a:pt x="8654" y="3646"/>
                  </a:lnTo>
                  <a:lnTo>
                    <a:pt x="8785" y="3625"/>
                  </a:lnTo>
                  <a:lnTo>
                    <a:pt x="9020" y="3625"/>
                  </a:lnTo>
                  <a:lnTo>
                    <a:pt x="9260" y="3626"/>
                  </a:lnTo>
                  <a:lnTo>
                    <a:pt x="9277" y="3640"/>
                  </a:lnTo>
                  <a:lnTo>
                    <a:pt x="9294" y="3656"/>
                  </a:lnTo>
                  <a:lnTo>
                    <a:pt x="9326" y="3691"/>
                  </a:lnTo>
                  <a:lnTo>
                    <a:pt x="9333" y="3702"/>
                  </a:lnTo>
                  <a:lnTo>
                    <a:pt x="9335" y="3709"/>
                  </a:lnTo>
                  <a:lnTo>
                    <a:pt x="9337" y="3719"/>
                  </a:lnTo>
                  <a:lnTo>
                    <a:pt x="9541" y="3699"/>
                  </a:lnTo>
                  <a:lnTo>
                    <a:pt x="9644" y="3688"/>
                  </a:lnTo>
                  <a:lnTo>
                    <a:pt x="9747" y="3678"/>
                  </a:lnTo>
                  <a:lnTo>
                    <a:pt x="9952" y="3655"/>
                  </a:lnTo>
                  <a:lnTo>
                    <a:pt x="10157" y="3632"/>
                  </a:lnTo>
                  <a:lnTo>
                    <a:pt x="10156" y="3615"/>
                  </a:lnTo>
                  <a:lnTo>
                    <a:pt x="10141" y="3458"/>
                  </a:lnTo>
                  <a:lnTo>
                    <a:pt x="10204" y="3443"/>
                  </a:lnTo>
                  <a:lnTo>
                    <a:pt x="10131" y="2752"/>
                  </a:lnTo>
                  <a:lnTo>
                    <a:pt x="10126" y="2703"/>
                  </a:lnTo>
                  <a:lnTo>
                    <a:pt x="10060" y="2705"/>
                  </a:lnTo>
                  <a:lnTo>
                    <a:pt x="10005" y="2186"/>
                  </a:lnTo>
                  <a:lnTo>
                    <a:pt x="9915" y="1330"/>
                  </a:lnTo>
                  <a:lnTo>
                    <a:pt x="9886" y="1050"/>
                  </a:lnTo>
                  <a:lnTo>
                    <a:pt x="9899" y="1022"/>
                  </a:lnTo>
                  <a:lnTo>
                    <a:pt x="9911" y="995"/>
                  </a:lnTo>
                  <a:lnTo>
                    <a:pt x="9922" y="967"/>
                  </a:lnTo>
                  <a:lnTo>
                    <a:pt x="9927" y="953"/>
                  </a:lnTo>
                  <a:lnTo>
                    <a:pt x="9933" y="940"/>
                  </a:lnTo>
                  <a:lnTo>
                    <a:pt x="9937" y="918"/>
                  </a:lnTo>
                  <a:lnTo>
                    <a:pt x="9937" y="906"/>
                  </a:lnTo>
                  <a:lnTo>
                    <a:pt x="9937" y="895"/>
                  </a:lnTo>
                  <a:lnTo>
                    <a:pt x="9949" y="868"/>
                  </a:lnTo>
                  <a:lnTo>
                    <a:pt x="9955" y="854"/>
                  </a:lnTo>
                  <a:lnTo>
                    <a:pt x="9956" y="850"/>
                  </a:lnTo>
                  <a:lnTo>
                    <a:pt x="9958" y="847"/>
                  </a:lnTo>
                  <a:lnTo>
                    <a:pt x="9962" y="841"/>
                  </a:lnTo>
                  <a:lnTo>
                    <a:pt x="9973" y="813"/>
                  </a:lnTo>
                  <a:lnTo>
                    <a:pt x="9984" y="784"/>
                  </a:lnTo>
                  <a:lnTo>
                    <a:pt x="9984" y="778"/>
                  </a:lnTo>
                  <a:lnTo>
                    <a:pt x="9984" y="775"/>
                  </a:lnTo>
                  <a:lnTo>
                    <a:pt x="9985" y="773"/>
                  </a:lnTo>
                  <a:lnTo>
                    <a:pt x="9986" y="763"/>
                  </a:lnTo>
                  <a:lnTo>
                    <a:pt x="9986" y="751"/>
                  </a:lnTo>
                  <a:lnTo>
                    <a:pt x="9986" y="740"/>
                  </a:lnTo>
                  <a:lnTo>
                    <a:pt x="9914" y="49"/>
                  </a:lnTo>
                  <a:lnTo>
                    <a:pt x="9909" y="0"/>
                  </a:lnTo>
                  <a:lnTo>
                    <a:pt x="9464" y="37"/>
                  </a:lnTo>
                  <a:lnTo>
                    <a:pt x="9020" y="7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57200" y="2590920"/>
              <a:ext cx="3892680" cy="1594800"/>
              <a:chOff x="457200" y="2590920"/>
              <a:chExt cx="3892680" cy="1594800"/>
            </a:xfrm>
          </p:grpSpPr>
          <p:sp>
            <p:nvSpPr>
              <p:cNvPr id="505" name="未知"/>
              <p:cNvSpPr/>
              <p:nvPr/>
            </p:nvSpPr>
            <p:spPr>
              <a:xfrm>
                <a:off x="3386160" y="3490560"/>
                <a:ext cx="928800" cy="23400"/>
              </a:xfrm>
              <a:custGeom>
                <a:avLst/>
                <a:gdLst/>
                <a:ahLst/>
                <a:rect l="l" t="t" r="r" b="b"/>
                <a:pathLst>
                  <a:path w="2339" h="62">
                    <a:moveTo>
                      <a:pt x="2339" y="62"/>
                    </a:moveTo>
                    <a:lnTo>
                      <a:pt x="2047" y="44"/>
                    </a:lnTo>
                    <a:lnTo>
                      <a:pt x="1756" y="30"/>
                    </a:lnTo>
                    <a:lnTo>
                      <a:pt x="1610" y="23"/>
                    </a:lnTo>
                    <a:lnTo>
                      <a:pt x="1464" y="18"/>
                    </a:lnTo>
                    <a:lnTo>
                      <a:pt x="1173" y="10"/>
                    </a:lnTo>
                    <a:lnTo>
                      <a:pt x="880" y="4"/>
                    </a:lnTo>
                    <a:lnTo>
                      <a:pt x="587" y="1"/>
                    </a:lnTo>
                    <a:lnTo>
                      <a:pt x="293" y="0"/>
                    </a:lnTo>
                    <a:lnTo>
                      <a:pt x="0" y="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2971800" y="3058920"/>
                <a:ext cx="1093680" cy="115560"/>
              </a:xfrm>
              <a:custGeom>
                <a:avLst/>
                <a:gdLst/>
                <a:ahLst/>
                <a:rect l="l" t="t" r="r" b="b"/>
                <a:pathLst>
                  <a:path w="2754" h="288">
                    <a:moveTo>
                      <a:pt x="2754" y="249"/>
                    </a:moveTo>
                    <a:lnTo>
                      <a:pt x="2716" y="259"/>
                    </a:lnTo>
                    <a:lnTo>
                      <a:pt x="2678" y="268"/>
                    </a:lnTo>
                    <a:lnTo>
                      <a:pt x="2658" y="271"/>
                    </a:lnTo>
                    <a:lnTo>
                      <a:pt x="2639" y="275"/>
                    </a:lnTo>
                    <a:lnTo>
                      <a:pt x="2601" y="281"/>
                    </a:lnTo>
                    <a:lnTo>
                      <a:pt x="2560" y="284"/>
                    </a:lnTo>
                    <a:lnTo>
                      <a:pt x="2520" y="287"/>
                    </a:lnTo>
                    <a:lnTo>
                      <a:pt x="2499" y="287"/>
                    </a:lnTo>
                    <a:lnTo>
                      <a:pt x="2479" y="288"/>
                    </a:lnTo>
                    <a:lnTo>
                      <a:pt x="2439" y="287"/>
                    </a:lnTo>
                    <a:lnTo>
                      <a:pt x="2396" y="283"/>
                    </a:lnTo>
                    <a:lnTo>
                      <a:pt x="2374" y="280"/>
                    </a:lnTo>
                    <a:lnTo>
                      <a:pt x="2353" y="278"/>
                    </a:lnTo>
                    <a:lnTo>
                      <a:pt x="2309" y="271"/>
                    </a:lnTo>
                    <a:lnTo>
                      <a:pt x="2265" y="263"/>
                    </a:lnTo>
                    <a:lnTo>
                      <a:pt x="2242" y="257"/>
                    </a:lnTo>
                    <a:lnTo>
                      <a:pt x="2220" y="252"/>
                    </a:lnTo>
                    <a:lnTo>
                      <a:pt x="2197" y="246"/>
                    </a:lnTo>
                    <a:lnTo>
                      <a:pt x="2175" y="241"/>
                    </a:lnTo>
                    <a:lnTo>
                      <a:pt x="2129" y="228"/>
                    </a:lnTo>
                    <a:lnTo>
                      <a:pt x="2106" y="220"/>
                    </a:lnTo>
                    <a:lnTo>
                      <a:pt x="2084" y="213"/>
                    </a:lnTo>
                    <a:lnTo>
                      <a:pt x="1829" y="191"/>
                    </a:lnTo>
                    <a:lnTo>
                      <a:pt x="1700" y="179"/>
                    </a:lnTo>
                    <a:lnTo>
                      <a:pt x="1636" y="173"/>
                    </a:lnTo>
                    <a:lnTo>
                      <a:pt x="1604" y="170"/>
                    </a:lnTo>
                    <a:lnTo>
                      <a:pt x="1573" y="168"/>
                    </a:lnTo>
                    <a:lnTo>
                      <a:pt x="1540" y="164"/>
                    </a:lnTo>
                    <a:lnTo>
                      <a:pt x="1508" y="161"/>
                    </a:lnTo>
                    <a:lnTo>
                      <a:pt x="1443" y="155"/>
                    </a:lnTo>
                    <a:lnTo>
                      <a:pt x="1315" y="142"/>
                    </a:lnTo>
                    <a:lnTo>
                      <a:pt x="1056" y="117"/>
                    </a:lnTo>
                    <a:lnTo>
                      <a:pt x="794" y="89"/>
                    </a:lnTo>
                    <a:lnTo>
                      <a:pt x="531" y="61"/>
                    </a:lnTo>
                    <a:lnTo>
                      <a:pt x="266" y="31"/>
                    </a:lnTo>
                    <a:lnTo>
                      <a:pt x="133" y="1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2298600" y="3655800"/>
                <a:ext cx="1092240" cy="153720"/>
              </a:xfrm>
              <a:custGeom>
                <a:avLst/>
                <a:gdLst/>
                <a:ahLst/>
                <a:rect l="l" t="t" r="r" b="b"/>
                <a:pathLst>
                  <a:path w="2752" h="390">
                    <a:moveTo>
                      <a:pt x="2752" y="264"/>
                    </a:moveTo>
                    <a:lnTo>
                      <a:pt x="2718" y="283"/>
                    </a:lnTo>
                    <a:lnTo>
                      <a:pt x="2685" y="301"/>
                    </a:lnTo>
                    <a:lnTo>
                      <a:pt x="2667" y="309"/>
                    </a:lnTo>
                    <a:lnTo>
                      <a:pt x="2658" y="313"/>
                    </a:lnTo>
                    <a:lnTo>
                      <a:pt x="2650" y="318"/>
                    </a:lnTo>
                    <a:lnTo>
                      <a:pt x="2615" y="333"/>
                    </a:lnTo>
                    <a:lnTo>
                      <a:pt x="2596" y="339"/>
                    </a:lnTo>
                    <a:lnTo>
                      <a:pt x="2578" y="346"/>
                    </a:lnTo>
                    <a:lnTo>
                      <a:pt x="2542" y="357"/>
                    </a:lnTo>
                    <a:lnTo>
                      <a:pt x="2523" y="361"/>
                    </a:lnTo>
                    <a:lnTo>
                      <a:pt x="2505" y="366"/>
                    </a:lnTo>
                    <a:lnTo>
                      <a:pt x="2486" y="370"/>
                    </a:lnTo>
                    <a:lnTo>
                      <a:pt x="2468" y="375"/>
                    </a:lnTo>
                    <a:lnTo>
                      <a:pt x="2428" y="380"/>
                    </a:lnTo>
                    <a:lnTo>
                      <a:pt x="2408" y="382"/>
                    </a:lnTo>
                    <a:lnTo>
                      <a:pt x="2398" y="383"/>
                    </a:lnTo>
                    <a:lnTo>
                      <a:pt x="2389" y="385"/>
                    </a:lnTo>
                    <a:lnTo>
                      <a:pt x="2378" y="385"/>
                    </a:lnTo>
                    <a:lnTo>
                      <a:pt x="2368" y="386"/>
                    </a:lnTo>
                    <a:lnTo>
                      <a:pt x="2347" y="388"/>
                    </a:lnTo>
                    <a:lnTo>
                      <a:pt x="2307" y="390"/>
                    </a:lnTo>
                    <a:lnTo>
                      <a:pt x="2265" y="389"/>
                    </a:lnTo>
                    <a:lnTo>
                      <a:pt x="2223" y="387"/>
                    </a:lnTo>
                    <a:lnTo>
                      <a:pt x="2201" y="385"/>
                    </a:lnTo>
                    <a:lnTo>
                      <a:pt x="2190" y="384"/>
                    </a:lnTo>
                    <a:lnTo>
                      <a:pt x="2180" y="384"/>
                    </a:lnTo>
                    <a:lnTo>
                      <a:pt x="2158" y="381"/>
                    </a:lnTo>
                    <a:lnTo>
                      <a:pt x="2137" y="379"/>
                    </a:lnTo>
                    <a:lnTo>
                      <a:pt x="2091" y="371"/>
                    </a:lnTo>
                    <a:lnTo>
                      <a:pt x="2078" y="368"/>
                    </a:lnTo>
                    <a:lnTo>
                      <a:pt x="2067" y="366"/>
                    </a:lnTo>
                    <a:lnTo>
                      <a:pt x="2045" y="362"/>
                    </a:lnTo>
                    <a:lnTo>
                      <a:pt x="2021" y="356"/>
                    </a:lnTo>
                    <a:lnTo>
                      <a:pt x="2009" y="353"/>
                    </a:lnTo>
                    <a:lnTo>
                      <a:pt x="1998" y="351"/>
                    </a:lnTo>
                    <a:lnTo>
                      <a:pt x="1952" y="339"/>
                    </a:lnTo>
                    <a:lnTo>
                      <a:pt x="1904" y="324"/>
                    </a:lnTo>
                    <a:lnTo>
                      <a:pt x="1856" y="309"/>
                    </a:lnTo>
                    <a:lnTo>
                      <a:pt x="1843" y="304"/>
                    </a:lnTo>
                    <a:lnTo>
                      <a:pt x="1831" y="300"/>
                    </a:lnTo>
                    <a:lnTo>
                      <a:pt x="1806" y="292"/>
                    </a:lnTo>
                    <a:lnTo>
                      <a:pt x="1781" y="282"/>
                    </a:lnTo>
                    <a:lnTo>
                      <a:pt x="1757" y="273"/>
                    </a:lnTo>
                    <a:lnTo>
                      <a:pt x="1731" y="262"/>
                    </a:lnTo>
                    <a:lnTo>
                      <a:pt x="1706" y="252"/>
                    </a:lnTo>
                    <a:lnTo>
                      <a:pt x="1680" y="240"/>
                    </a:lnTo>
                    <a:lnTo>
                      <a:pt x="1667" y="234"/>
                    </a:lnTo>
                    <a:lnTo>
                      <a:pt x="1655" y="229"/>
                    </a:lnTo>
                    <a:lnTo>
                      <a:pt x="1603" y="203"/>
                    </a:lnTo>
                    <a:lnTo>
                      <a:pt x="1551" y="178"/>
                    </a:lnTo>
                    <a:lnTo>
                      <a:pt x="1496" y="150"/>
                    </a:lnTo>
                    <a:lnTo>
                      <a:pt x="1442" y="121"/>
                    </a:lnTo>
                    <a:lnTo>
                      <a:pt x="1414" y="105"/>
                    </a:lnTo>
                    <a:lnTo>
                      <a:pt x="1400" y="97"/>
                    </a:lnTo>
                    <a:lnTo>
                      <a:pt x="1387" y="90"/>
                    </a:lnTo>
                    <a:lnTo>
                      <a:pt x="1332" y="58"/>
                    </a:lnTo>
                    <a:lnTo>
                      <a:pt x="1260" y="43"/>
                    </a:lnTo>
                    <a:lnTo>
                      <a:pt x="1188" y="32"/>
                    </a:lnTo>
                    <a:lnTo>
                      <a:pt x="1114" y="21"/>
                    </a:lnTo>
                    <a:lnTo>
                      <a:pt x="1039" y="14"/>
                    </a:lnTo>
                    <a:lnTo>
                      <a:pt x="961" y="7"/>
                    </a:lnTo>
                    <a:lnTo>
                      <a:pt x="882" y="4"/>
                    </a:lnTo>
                    <a:lnTo>
                      <a:pt x="801" y="0"/>
                    </a:lnTo>
                    <a:lnTo>
                      <a:pt x="719" y="1"/>
                    </a:lnTo>
                    <a:lnTo>
                      <a:pt x="634" y="3"/>
                    </a:lnTo>
                    <a:lnTo>
                      <a:pt x="549" y="8"/>
                    </a:lnTo>
                    <a:lnTo>
                      <a:pt x="462" y="13"/>
                    </a:lnTo>
                    <a:lnTo>
                      <a:pt x="372" y="22"/>
                    </a:lnTo>
                    <a:lnTo>
                      <a:pt x="281" y="31"/>
                    </a:lnTo>
                    <a:lnTo>
                      <a:pt x="189" y="44"/>
                    </a:lnTo>
                    <a:lnTo>
                      <a:pt x="95" y="59"/>
                    </a:lnTo>
                    <a:lnTo>
                      <a:pt x="0" y="7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604800" y="3124080"/>
                <a:ext cx="615960" cy="115560"/>
              </a:xfrm>
              <a:custGeom>
                <a:avLst/>
                <a:gdLst/>
                <a:ahLst/>
                <a:rect l="l" t="t" r="r" b="b"/>
                <a:pathLst>
                  <a:path w="1553" h="294">
                    <a:moveTo>
                      <a:pt x="1553" y="239"/>
                    </a:moveTo>
                    <a:lnTo>
                      <a:pt x="1491" y="249"/>
                    </a:lnTo>
                    <a:lnTo>
                      <a:pt x="1430" y="259"/>
                    </a:lnTo>
                    <a:lnTo>
                      <a:pt x="1313" y="275"/>
                    </a:lnTo>
                    <a:lnTo>
                      <a:pt x="1255" y="281"/>
                    </a:lnTo>
                    <a:lnTo>
                      <a:pt x="1198" y="286"/>
                    </a:lnTo>
                    <a:lnTo>
                      <a:pt x="1141" y="290"/>
                    </a:lnTo>
                    <a:lnTo>
                      <a:pt x="1087" y="293"/>
                    </a:lnTo>
                    <a:lnTo>
                      <a:pt x="1032" y="294"/>
                    </a:lnTo>
                    <a:lnTo>
                      <a:pt x="978" y="294"/>
                    </a:lnTo>
                    <a:lnTo>
                      <a:pt x="925" y="293"/>
                    </a:lnTo>
                    <a:lnTo>
                      <a:pt x="873" y="291"/>
                    </a:lnTo>
                    <a:lnTo>
                      <a:pt x="821" y="287"/>
                    </a:lnTo>
                    <a:lnTo>
                      <a:pt x="771" y="283"/>
                    </a:lnTo>
                    <a:lnTo>
                      <a:pt x="674" y="271"/>
                    </a:lnTo>
                    <a:lnTo>
                      <a:pt x="624" y="262"/>
                    </a:lnTo>
                    <a:lnTo>
                      <a:pt x="577" y="253"/>
                    </a:lnTo>
                    <a:lnTo>
                      <a:pt x="530" y="242"/>
                    </a:lnTo>
                    <a:lnTo>
                      <a:pt x="485" y="231"/>
                    </a:lnTo>
                    <a:lnTo>
                      <a:pt x="440" y="218"/>
                    </a:lnTo>
                    <a:lnTo>
                      <a:pt x="396" y="203"/>
                    </a:lnTo>
                    <a:lnTo>
                      <a:pt x="352" y="188"/>
                    </a:lnTo>
                    <a:lnTo>
                      <a:pt x="310" y="172"/>
                    </a:lnTo>
                    <a:lnTo>
                      <a:pt x="268" y="154"/>
                    </a:lnTo>
                    <a:lnTo>
                      <a:pt x="227" y="135"/>
                    </a:lnTo>
                    <a:lnTo>
                      <a:pt x="187" y="115"/>
                    </a:lnTo>
                    <a:lnTo>
                      <a:pt x="149" y="95"/>
                    </a:lnTo>
                    <a:lnTo>
                      <a:pt x="110" y="72"/>
                    </a:lnTo>
                    <a:lnTo>
                      <a:pt x="72" y="49"/>
                    </a:lnTo>
                    <a:lnTo>
                      <a:pt x="35" y="2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>
                <a:off x="1552680" y="3103200"/>
                <a:ext cx="1065240" cy="99720"/>
              </a:xfrm>
              <a:custGeom>
                <a:avLst/>
                <a:gdLst/>
                <a:ahLst/>
                <a:rect l="l" t="t" r="r" b="b"/>
                <a:pathLst>
                  <a:path w="2686" h="250">
                    <a:moveTo>
                      <a:pt x="2686" y="250"/>
                    </a:moveTo>
                    <a:lnTo>
                      <a:pt x="2503" y="215"/>
                    </a:lnTo>
                    <a:lnTo>
                      <a:pt x="2325" y="182"/>
                    </a:lnTo>
                    <a:lnTo>
                      <a:pt x="2150" y="151"/>
                    </a:lnTo>
                    <a:lnTo>
                      <a:pt x="1978" y="124"/>
                    </a:lnTo>
                    <a:lnTo>
                      <a:pt x="1809" y="97"/>
                    </a:lnTo>
                    <a:lnTo>
                      <a:pt x="1725" y="84"/>
                    </a:lnTo>
                    <a:lnTo>
                      <a:pt x="1644" y="73"/>
                    </a:lnTo>
                    <a:lnTo>
                      <a:pt x="1481" y="50"/>
                    </a:lnTo>
                    <a:lnTo>
                      <a:pt x="1323" y="30"/>
                    </a:lnTo>
                    <a:lnTo>
                      <a:pt x="1287" y="45"/>
                    </a:lnTo>
                    <a:lnTo>
                      <a:pt x="1252" y="59"/>
                    </a:lnTo>
                    <a:lnTo>
                      <a:pt x="1215" y="71"/>
                    </a:lnTo>
                    <a:lnTo>
                      <a:pt x="1180" y="83"/>
                    </a:lnTo>
                    <a:lnTo>
                      <a:pt x="1143" y="93"/>
                    </a:lnTo>
                    <a:lnTo>
                      <a:pt x="1107" y="103"/>
                    </a:lnTo>
                    <a:lnTo>
                      <a:pt x="1069" y="112"/>
                    </a:lnTo>
                    <a:lnTo>
                      <a:pt x="1032" y="120"/>
                    </a:lnTo>
                    <a:lnTo>
                      <a:pt x="993" y="126"/>
                    </a:lnTo>
                    <a:lnTo>
                      <a:pt x="954" y="132"/>
                    </a:lnTo>
                    <a:lnTo>
                      <a:pt x="876" y="140"/>
                    </a:lnTo>
                    <a:lnTo>
                      <a:pt x="796" y="144"/>
                    </a:lnTo>
                    <a:lnTo>
                      <a:pt x="775" y="144"/>
                    </a:lnTo>
                    <a:lnTo>
                      <a:pt x="755" y="145"/>
                    </a:lnTo>
                    <a:lnTo>
                      <a:pt x="715" y="145"/>
                    </a:lnTo>
                    <a:lnTo>
                      <a:pt x="630" y="141"/>
                    </a:lnTo>
                    <a:lnTo>
                      <a:pt x="587" y="137"/>
                    </a:lnTo>
                    <a:lnTo>
                      <a:pt x="545" y="133"/>
                    </a:lnTo>
                    <a:lnTo>
                      <a:pt x="501" y="127"/>
                    </a:lnTo>
                    <a:lnTo>
                      <a:pt x="458" y="121"/>
                    </a:lnTo>
                    <a:lnTo>
                      <a:pt x="413" y="113"/>
                    </a:lnTo>
                    <a:lnTo>
                      <a:pt x="370" y="105"/>
                    </a:lnTo>
                    <a:lnTo>
                      <a:pt x="324" y="95"/>
                    </a:lnTo>
                    <a:lnTo>
                      <a:pt x="279" y="85"/>
                    </a:lnTo>
                    <a:lnTo>
                      <a:pt x="233" y="73"/>
                    </a:lnTo>
                    <a:lnTo>
                      <a:pt x="188" y="61"/>
                    </a:lnTo>
                    <a:lnTo>
                      <a:pt x="140" y="47"/>
                    </a:lnTo>
                    <a:lnTo>
                      <a:pt x="94" y="3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814320" y="3603240"/>
                <a:ext cx="633600" cy="53640"/>
              </a:xfrm>
              <a:custGeom>
                <a:avLst/>
                <a:gdLst/>
                <a:ahLst/>
                <a:rect l="l" t="t" r="r" b="b"/>
                <a:pathLst>
                  <a:path w="1598" h="135">
                    <a:moveTo>
                      <a:pt x="1598" y="65"/>
                    </a:moveTo>
                    <a:lnTo>
                      <a:pt x="1504" y="83"/>
                    </a:lnTo>
                    <a:lnTo>
                      <a:pt x="1456" y="91"/>
                    </a:lnTo>
                    <a:lnTo>
                      <a:pt x="1410" y="99"/>
                    </a:lnTo>
                    <a:lnTo>
                      <a:pt x="1362" y="105"/>
                    </a:lnTo>
                    <a:lnTo>
                      <a:pt x="1338" y="108"/>
                    </a:lnTo>
                    <a:lnTo>
                      <a:pt x="1315" y="112"/>
                    </a:lnTo>
                    <a:lnTo>
                      <a:pt x="1267" y="117"/>
                    </a:lnTo>
                    <a:lnTo>
                      <a:pt x="1220" y="123"/>
                    </a:lnTo>
                    <a:lnTo>
                      <a:pt x="1207" y="123"/>
                    </a:lnTo>
                    <a:lnTo>
                      <a:pt x="1194" y="124"/>
                    </a:lnTo>
                    <a:lnTo>
                      <a:pt x="1170" y="126"/>
                    </a:lnTo>
                    <a:lnTo>
                      <a:pt x="1122" y="129"/>
                    </a:lnTo>
                    <a:lnTo>
                      <a:pt x="1073" y="132"/>
                    </a:lnTo>
                    <a:lnTo>
                      <a:pt x="1025" y="134"/>
                    </a:lnTo>
                    <a:lnTo>
                      <a:pt x="975" y="134"/>
                    </a:lnTo>
                    <a:lnTo>
                      <a:pt x="950" y="134"/>
                    </a:lnTo>
                    <a:lnTo>
                      <a:pt x="925" y="135"/>
                    </a:lnTo>
                    <a:lnTo>
                      <a:pt x="827" y="133"/>
                    </a:lnTo>
                    <a:lnTo>
                      <a:pt x="801" y="130"/>
                    </a:lnTo>
                    <a:lnTo>
                      <a:pt x="788" y="129"/>
                    </a:lnTo>
                    <a:lnTo>
                      <a:pt x="776" y="129"/>
                    </a:lnTo>
                    <a:lnTo>
                      <a:pt x="726" y="126"/>
                    </a:lnTo>
                    <a:lnTo>
                      <a:pt x="625" y="117"/>
                    </a:lnTo>
                    <a:lnTo>
                      <a:pt x="523" y="105"/>
                    </a:lnTo>
                    <a:lnTo>
                      <a:pt x="421" y="91"/>
                    </a:lnTo>
                    <a:lnTo>
                      <a:pt x="316" y="72"/>
                    </a:lnTo>
                    <a:lnTo>
                      <a:pt x="212" y="51"/>
                    </a:lnTo>
                    <a:lnTo>
                      <a:pt x="105" y="27"/>
                    </a:lnTo>
                    <a:lnTo>
                      <a:pt x="52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509760" y="2590920"/>
                <a:ext cx="3840120" cy="228240"/>
              </a:xfrm>
              <a:custGeom>
                <a:avLst/>
                <a:gdLst/>
                <a:ahLst/>
                <a:rect l="l" t="t" r="r" b="b"/>
                <a:pathLst>
                  <a:path w="9678" h="576">
                    <a:moveTo>
                      <a:pt x="9678" y="0"/>
                    </a:moveTo>
                    <a:lnTo>
                      <a:pt x="9661" y="2"/>
                    </a:lnTo>
                    <a:lnTo>
                      <a:pt x="9643" y="6"/>
                    </a:lnTo>
                    <a:lnTo>
                      <a:pt x="9623" y="10"/>
                    </a:lnTo>
                    <a:lnTo>
                      <a:pt x="9602" y="16"/>
                    </a:lnTo>
                    <a:lnTo>
                      <a:pt x="9577" y="22"/>
                    </a:lnTo>
                    <a:lnTo>
                      <a:pt x="9552" y="29"/>
                    </a:lnTo>
                    <a:lnTo>
                      <a:pt x="9525" y="37"/>
                    </a:lnTo>
                    <a:lnTo>
                      <a:pt x="9496" y="47"/>
                    </a:lnTo>
                    <a:lnTo>
                      <a:pt x="9429" y="58"/>
                    </a:lnTo>
                    <a:lnTo>
                      <a:pt x="9361" y="72"/>
                    </a:lnTo>
                    <a:lnTo>
                      <a:pt x="9289" y="87"/>
                    </a:lnTo>
                    <a:lnTo>
                      <a:pt x="9218" y="104"/>
                    </a:lnTo>
                    <a:lnTo>
                      <a:pt x="9144" y="121"/>
                    </a:lnTo>
                    <a:lnTo>
                      <a:pt x="9069" y="141"/>
                    </a:lnTo>
                    <a:lnTo>
                      <a:pt x="8991" y="162"/>
                    </a:lnTo>
                    <a:lnTo>
                      <a:pt x="8912" y="186"/>
                    </a:lnTo>
                    <a:lnTo>
                      <a:pt x="8687" y="253"/>
                    </a:lnTo>
                    <a:lnTo>
                      <a:pt x="8465" y="323"/>
                    </a:lnTo>
                    <a:lnTo>
                      <a:pt x="8433" y="332"/>
                    </a:lnTo>
                    <a:lnTo>
                      <a:pt x="8402" y="340"/>
                    </a:lnTo>
                    <a:lnTo>
                      <a:pt x="8370" y="347"/>
                    </a:lnTo>
                    <a:lnTo>
                      <a:pt x="8354" y="350"/>
                    </a:lnTo>
                    <a:lnTo>
                      <a:pt x="8339" y="354"/>
                    </a:lnTo>
                    <a:lnTo>
                      <a:pt x="8306" y="358"/>
                    </a:lnTo>
                    <a:lnTo>
                      <a:pt x="8274" y="362"/>
                    </a:lnTo>
                    <a:lnTo>
                      <a:pt x="8265" y="362"/>
                    </a:lnTo>
                    <a:lnTo>
                      <a:pt x="8257" y="363"/>
                    </a:lnTo>
                    <a:lnTo>
                      <a:pt x="8241" y="365"/>
                    </a:lnTo>
                    <a:lnTo>
                      <a:pt x="8208" y="368"/>
                    </a:lnTo>
                    <a:lnTo>
                      <a:pt x="8174" y="368"/>
                    </a:lnTo>
                    <a:lnTo>
                      <a:pt x="8141" y="368"/>
                    </a:lnTo>
                    <a:lnTo>
                      <a:pt x="8107" y="367"/>
                    </a:lnTo>
                    <a:lnTo>
                      <a:pt x="8074" y="365"/>
                    </a:lnTo>
                    <a:lnTo>
                      <a:pt x="8006" y="357"/>
                    </a:lnTo>
                    <a:lnTo>
                      <a:pt x="7971" y="351"/>
                    </a:lnTo>
                    <a:lnTo>
                      <a:pt x="7936" y="345"/>
                    </a:lnTo>
                    <a:lnTo>
                      <a:pt x="7901" y="338"/>
                    </a:lnTo>
                    <a:lnTo>
                      <a:pt x="7867" y="333"/>
                    </a:lnTo>
                    <a:lnTo>
                      <a:pt x="7832" y="328"/>
                    </a:lnTo>
                    <a:lnTo>
                      <a:pt x="7797" y="325"/>
                    </a:lnTo>
                    <a:lnTo>
                      <a:pt x="7760" y="322"/>
                    </a:lnTo>
                    <a:lnTo>
                      <a:pt x="7724" y="321"/>
                    </a:lnTo>
                    <a:lnTo>
                      <a:pt x="7686" y="320"/>
                    </a:lnTo>
                    <a:lnTo>
                      <a:pt x="7648" y="321"/>
                    </a:lnTo>
                    <a:lnTo>
                      <a:pt x="7570" y="324"/>
                    </a:lnTo>
                    <a:lnTo>
                      <a:pt x="7530" y="327"/>
                    </a:lnTo>
                    <a:lnTo>
                      <a:pt x="7491" y="332"/>
                    </a:lnTo>
                    <a:lnTo>
                      <a:pt x="7450" y="337"/>
                    </a:lnTo>
                    <a:lnTo>
                      <a:pt x="7408" y="344"/>
                    </a:lnTo>
                    <a:lnTo>
                      <a:pt x="7366" y="351"/>
                    </a:lnTo>
                    <a:lnTo>
                      <a:pt x="7325" y="360"/>
                    </a:lnTo>
                    <a:lnTo>
                      <a:pt x="7282" y="366"/>
                    </a:lnTo>
                    <a:lnTo>
                      <a:pt x="7261" y="368"/>
                    </a:lnTo>
                    <a:lnTo>
                      <a:pt x="7241" y="369"/>
                    </a:lnTo>
                    <a:lnTo>
                      <a:pt x="7201" y="367"/>
                    </a:lnTo>
                    <a:lnTo>
                      <a:pt x="7164" y="361"/>
                    </a:lnTo>
                    <a:lnTo>
                      <a:pt x="7106" y="347"/>
                    </a:lnTo>
                    <a:lnTo>
                      <a:pt x="7048" y="335"/>
                    </a:lnTo>
                    <a:lnTo>
                      <a:pt x="6989" y="323"/>
                    </a:lnTo>
                    <a:lnTo>
                      <a:pt x="6929" y="313"/>
                    </a:lnTo>
                    <a:lnTo>
                      <a:pt x="6866" y="303"/>
                    </a:lnTo>
                    <a:lnTo>
                      <a:pt x="6803" y="296"/>
                    </a:lnTo>
                    <a:lnTo>
                      <a:pt x="6738" y="289"/>
                    </a:lnTo>
                    <a:lnTo>
                      <a:pt x="6673" y="284"/>
                    </a:lnTo>
                    <a:lnTo>
                      <a:pt x="6587" y="277"/>
                    </a:lnTo>
                    <a:lnTo>
                      <a:pt x="6506" y="272"/>
                    </a:lnTo>
                    <a:lnTo>
                      <a:pt x="6427" y="268"/>
                    </a:lnTo>
                    <a:lnTo>
                      <a:pt x="6350" y="267"/>
                    </a:lnTo>
                    <a:lnTo>
                      <a:pt x="6273" y="266"/>
                    </a:lnTo>
                    <a:lnTo>
                      <a:pt x="6200" y="268"/>
                    </a:lnTo>
                    <a:lnTo>
                      <a:pt x="6129" y="271"/>
                    </a:lnTo>
                    <a:lnTo>
                      <a:pt x="6060" y="276"/>
                    </a:lnTo>
                    <a:lnTo>
                      <a:pt x="5967" y="282"/>
                    </a:lnTo>
                    <a:lnTo>
                      <a:pt x="5919" y="285"/>
                    </a:lnTo>
                    <a:lnTo>
                      <a:pt x="5871" y="289"/>
                    </a:lnTo>
                    <a:lnTo>
                      <a:pt x="5821" y="291"/>
                    </a:lnTo>
                    <a:lnTo>
                      <a:pt x="5769" y="295"/>
                    </a:lnTo>
                    <a:lnTo>
                      <a:pt x="5717" y="298"/>
                    </a:lnTo>
                    <a:lnTo>
                      <a:pt x="5665" y="302"/>
                    </a:lnTo>
                    <a:lnTo>
                      <a:pt x="5579" y="307"/>
                    </a:lnTo>
                    <a:lnTo>
                      <a:pt x="5538" y="311"/>
                    </a:lnTo>
                    <a:lnTo>
                      <a:pt x="5498" y="317"/>
                    </a:lnTo>
                    <a:lnTo>
                      <a:pt x="5422" y="330"/>
                    </a:lnTo>
                    <a:lnTo>
                      <a:pt x="5385" y="338"/>
                    </a:lnTo>
                    <a:lnTo>
                      <a:pt x="5351" y="348"/>
                    </a:lnTo>
                    <a:lnTo>
                      <a:pt x="5316" y="357"/>
                    </a:lnTo>
                    <a:lnTo>
                      <a:pt x="5284" y="368"/>
                    </a:lnTo>
                    <a:lnTo>
                      <a:pt x="5252" y="379"/>
                    </a:lnTo>
                    <a:lnTo>
                      <a:pt x="5221" y="392"/>
                    </a:lnTo>
                    <a:lnTo>
                      <a:pt x="5163" y="419"/>
                    </a:lnTo>
                    <a:lnTo>
                      <a:pt x="5135" y="434"/>
                    </a:lnTo>
                    <a:lnTo>
                      <a:pt x="5110" y="452"/>
                    </a:lnTo>
                    <a:lnTo>
                      <a:pt x="5004" y="477"/>
                    </a:lnTo>
                    <a:lnTo>
                      <a:pt x="4893" y="503"/>
                    </a:lnTo>
                    <a:lnTo>
                      <a:pt x="4836" y="515"/>
                    </a:lnTo>
                    <a:lnTo>
                      <a:pt x="4778" y="529"/>
                    </a:lnTo>
                    <a:lnTo>
                      <a:pt x="4657" y="556"/>
                    </a:lnTo>
                    <a:lnTo>
                      <a:pt x="4620" y="563"/>
                    </a:lnTo>
                    <a:lnTo>
                      <a:pt x="4586" y="568"/>
                    </a:lnTo>
                    <a:lnTo>
                      <a:pt x="4552" y="572"/>
                    </a:lnTo>
                    <a:lnTo>
                      <a:pt x="4521" y="575"/>
                    </a:lnTo>
                    <a:lnTo>
                      <a:pt x="4490" y="576"/>
                    </a:lnTo>
                    <a:lnTo>
                      <a:pt x="4461" y="575"/>
                    </a:lnTo>
                    <a:lnTo>
                      <a:pt x="4433" y="573"/>
                    </a:lnTo>
                    <a:lnTo>
                      <a:pt x="4406" y="570"/>
                    </a:lnTo>
                    <a:lnTo>
                      <a:pt x="4380" y="564"/>
                    </a:lnTo>
                    <a:lnTo>
                      <a:pt x="4356" y="557"/>
                    </a:lnTo>
                    <a:lnTo>
                      <a:pt x="4332" y="549"/>
                    </a:lnTo>
                    <a:lnTo>
                      <a:pt x="4311" y="540"/>
                    </a:lnTo>
                    <a:lnTo>
                      <a:pt x="4290" y="528"/>
                    </a:lnTo>
                    <a:lnTo>
                      <a:pt x="4271" y="515"/>
                    </a:lnTo>
                    <a:lnTo>
                      <a:pt x="4253" y="501"/>
                    </a:lnTo>
                    <a:lnTo>
                      <a:pt x="4237" y="486"/>
                    </a:lnTo>
                    <a:lnTo>
                      <a:pt x="4219" y="469"/>
                    </a:lnTo>
                    <a:lnTo>
                      <a:pt x="4201" y="454"/>
                    </a:lnTo>
                    <a:lnTo>
                      <a:pt x="4182" y="440"/>
                    </a:lnTo>
                    <a:lnTo>
                      <a:pt x="4163" y="427"/>
                    </a:lnTo>
                    <a:lnTo>
                      <a:pt x="4140" y="415"/>
                    </a:lnTo>
                    <a:lnTo>
                      <a:pt x="4119" y="406"/>
                    </a:lnTo>
                    <a:lnTo>
                      <a:pt x="4096" y="397"/>
                    </a:lnTo>
                    <a:lnTo>
                      <a:pt x="4073" y="390"/>
                    </a:lnTo>
                    <a:lnTo>
                      <a:pt x="4048" y="383"/>
                    </a:lnTo>
                    <a:lnTo>
                      <a:pt x="4023" y="378"/>
                    </a:lnTo>
                    <a:lnTo>
                      <a:pt x="3996" y="373"/>
                    </a:lnTo>
                    <a:lnTo>
                      <a:pt x="3969" y="371"/>
                    </a:lnTo>
                    <a:lnTo>
                      <a:pt x="3940" y="369"/>
                    </a:lnTo>
                    <a:lnTo>
                      <a:pt x="3911" y="369"/>
                    </a:lnTo>
                    <a:lnTo>
                      <a:pt x="3880" y="369"/>
                    </a:lnTo>
                    <a:lnTo>
                      <a:pt x="3849" y="372"/>
                    </a:lnTo>
                    <a:lnTo>
                      <a:pt x="3785" y="374"/>
                    </a:lnTo>
                    <a:lnTo>
                      <a:pt x="3754" y="374"/>
                    </a:lnTo>
                    <a:lnTo>
                      <a:pt x="3724" y="373"/>
                    </a:lnTo>
                    <a:lnTo>
                      <a:pt x="3664" y="367"/>
                    </a:lnTo>
                    <a:lnTo>
                      <a:pt x="3606" y="357"/>
                    </a:lnTo>
                    <a:lnTo>
                      <a:pt x="3575" y="350"/>
                    </a:lnTo>
                    <a:lnTo>
                      <a:pt x="3547" y="342"/>
                    </a:lnTo>
                    <a:lnTo>
                      <a:pt x="3491" y="324"/>
                    </a:lnTo>
                    <a:lnTo>
                      <a:pt x="3436" y="300"/>
                    </a:lnTo>
                    <a:lnTo>
                      <a:pt x="3384" y="274"/>
                    </a:lnTo>
                    <a:lnTo>
                      <a:pt x="3356" y="259"/>
                    </a:lnTo>
                    <a:lnTo>
                      <a:pt x="3327" y="247"/>
                    </a:lnTo>
                    <a:lnTo>
                      <a:pt x="3298" y="236"/>
                    </a:lnTo>
                    <a:lnTo>
                      <a:pt x="3269" y="228"/>
                    </a:lnTo>
                    <a:lnTo>
                      <a:pt x="3238" y="221"/>
                    </a:lnTo>
                    <a:lnTo>
                      <a:pt x="3207" y="216"/>
                    </a:lnTo>
                    <a:lnTo>
                      <a:pt x="3174" y="212"/>
                    </a:lnTo>
                    <a:lnTo>
                      <a:pt x="3142" y="212"/>
                    </a:lnTo>
                    <a:lnTo>
                      <a:pt x="3107" y="211"/>
                    </a:lnTo>
                    <a:lnTo>
                      <a:pt x="3072" y="215"/>
                    </a:lnTo>
                    <a:lnTo>
                      <a:pt x="3034" y="219"/>
                    </a:lnTo>
                    <a:lnTo>
                      <a:pt x="2998" y="226"/>
                    </a:lnTo>
                    <a:lnTo>
                      <a:pt x="2960" y="233"/>
                    </a:lnTo>
                    <a:lnTo>
                      <a:pt x="2922" y="244"/>
                    </a:lnTo>
                    <a:lnTo>
                      <a:pt x="2882" y="256"/>
                    </a:lnTo>
                    <a:lnTo>
                      <a:pt x="2842" y="271"/>
                    </a:lnTo>
                    <a:lnTo>
                      <a:pt x="2786" y="275"/>
                    </a:lnTo>
                    <a:lnTo>
                      <a:pt x="2729" y="279"/>
                    </a:lnTo>
                    <a:lnTo>
                      <a:pt x="2671" y="282"/>
                    </a:lnTo>
                    <a:lnTo>
                      <a:pt x="2613" y="286"/>
                    </a:lnTo>
                    <a:lnTo>
                      <a:pt x="2547" y="286"/>
                    </a:lnTo>
                    <a:lnTo>
                      <a:pt x="2480" y="287"/>
                    </a:lnTo>
                    <a:lnTo>
                      <a:pt x="2432" y="287"/>
                    </a:lnTo>
                    <a:lnTo>
                      <a:pt x="2385" y="289"/>
                    </a:lnTo>
                    <a:lnTo>
                      <a:pt x="2291" y="295"/>
                    </a:lnTo>
                    <a:lnTo>
                      <a:pt x="2190" y="304"/>
                    </a:lnTo>
                    <a:lnTo>
                      <a:pt x="2092" y="318"/>
                    </a:lnTo>
                    <a:lnTo>
                      <a:pt x="2042" y="326"/>
                    </a:lnTo>
                    <a:lnTo>
                      <a:pt x="1993" y="336"/>
                    </a:lnTo>
                    <a:lnTo>
                      <a:pt x="1894" y="360"/>
                    </a:lnTo>
                    <a:lnTo>
                      <a:pt x="1877" y="358"/>
                    </a:lnTo>
                    <a:lnTo>
                      <a:pt x="1861" y="358"/>
                    </a:lnTo>
                    <a:lnTo>
                      <a:pt x="1844" y="358"/>
                    </a:lnTo>
                    <a:lnTo>
                      <a:pt x="1828" y="360"/>
                    </a:lnTo>
                    <a:lnTo>
                      <a:pt x="1810" y="362"/>
                    </a:lnTo>
                    <a:lnTo>
                      <a:pt x="1793" y="366"/>
                    </a:lnTo>
                    <a:lnTo>
                      <a:pt x="1775" y="370"/>
                    </a:lnTo>
                    <a:lnTo>
                      <a:pt x="1758" y="376"/>
                    </a:lnTo>
                    <a:lnTo>
                      <a:pt x="1735" y="382"/>
                    </a:lnTo>
                    <a:lnTo>
                      <a:pt x="1713" y="390"/>
                    </a:lnTo>
                    <a:lnTo>
                      <a:pt x="1689" y="399"/>
                    </a:lnTo>
                    <a:lnTo>
                      <a:pt x="1667" y="410"/>
                    </a:lnTo>
                    <a:lnTo>
                      <a:pt x="1643" y="421"/>
                    </a:lnTo>
                    <a:lnTo>
                      <a:pt x="1620" y="434"/>
                    </a:lnTo>
                    <a:lnTo>
                      <a:pt x="1595" y="449"/>
                    </a:lnTo>
                    <a:lnTo>
                      <a:pt x="1571" y="465"/>
                    </a:lnTo>
                    <a:lnTo>
                      <a:pt x="1549" y="454"/>
                    </a:lnTo>
                    <a:lnTo>
                      <a:pt x="1528" y="445"/>
                    </a:lnTo>
                    <a:lnTo>
                      <a:pt x="1505" y="436"/>
                    </a:lnTo>
                    <a:lnTo>
                      <a:pt x="1483" y="431"/>
                    </a:lnTo>
                    <a:lnTo>
                      <a:pt x="1459" y="425"/>
                    </a:lnTo>
                    <a:lnTo>
                      <a:pt x="1436" y="422"/>
                    </a:lnTo>
                    <a:lnTo>
                      <a:pt x="1387" y="420"/>
                    </a:lnTo>
                    <a:lnTo>
                      <a:pt x="1357" y="419"/>
                    </a:lnTo>
                    <a:lnTo>
                      <a:pt x="1328" y="422"/>
                    </a:lnTo>
                    <a:lnTo>
                      <a:pt x="1298" y="426"/>
                    </a:lnTo>
                    <a:lnTo>
                      <a:pt x="1269" y="433"/>
                    </a:lnTo>
                    <a:lnTo>
                      <a:pt x="1237" y="441"/>
                    </a:lnTo>
                    <a:lnTo>
                      <a:pt x="1206" y="451"/>
                    </a:lnTo>
                    <a:lnTo>
                      <a:pt x="1174" y="462"/>
                    </a:lnTo>
                    <a:lnTo>
                      <a:pt x="1141" y="476"/>
                    </a:lnTo>
                    <a:lnTo>
                      <a:pt x="1123" y="455"/>
                    </a:lnTo>
                    <a:lnTo>
                      <a:pt x="1106" y="437"/>
                    </a:lnTo>
                    <a:lnTo>
                      <a:pt x="1087" y="421"/>
                    </a:lnTo>
                    <a:lnTo>
                      <a:pt x="1068" y="408"/>
                    </a:lnTo>
                    <a:lnTo>
                      <a:pt x="1047" y="395"/>
                    </a:lnTo>
                    <a:lnTo>
                      <a:pt x="1027" y="386"/>
                    </a:lnTo>
                    <a:lnTo>
                      <a:pt x="1005" y="379"/>
                    </a:lnTo>
                    <a:lnTo>
                      <a:pt x="983" y="374"/>
                    </a:lnTo>
                    <a:lnTo>
                      <a:pt x="959" y="369"/>
                    </a:lnTo>
                    <a:lnTo>
                      <a:pt x="935" y="368"/>
                    </a:lnTo>
                    <a:lnTo>
                      <a:pt x="909" y="367"/>
                    </a:lnTo>
                    <a:lnTo>
                      <a:pt x="884" y="370"/>
                    </a:lnTo>
                    <a:lnTo>
                      <a:pt x="855" y="373"/>
                    </a:lnTo>
                    <a:lnTo>
                      <a:pt x="828" y="380"/>
                    </a:lnTo>
                    <a:lnTo>
                      <a:pt x="799" y="389"/>
                    </a:lnTo>
                    <a:lnTo>
                      <a:pt x="770" y="400"/>
                    </a:lnTo>
                    <a:lnTo>
                      <a:pt x="694" y="425"/>
                    </a:lnTo>
                    <a:lnTo>
                      <a:pt x="621" y="448"/>
                    </a:lnTo>
                    <a:lnTo>
                      <a:pt x="547" y="466"/>
                    </a:lnTo>
                    <a:lnTo>
                      <a:pt x="477" y="480"/>
                    </a:lnTo>
                    <a:lnTo>
                      <a:pt x="407" y="490"/>
                    </a:lnTo>
                    <a:lnTo>
                      <a:pt x="340" y="496"/>
                    </a:lnTo>
                    <a:lnTo>
                      <a:pt x="273" y="498"/>
                    </a:lnTo>
                    <a:lnTo>
                      <a:pt x="209" y="498"/>
                    </a:lnTo>
                    <a:lnTo>
                      <a:pt x="178" y="495"/>
                    </a:lnTo>
                    <a:lnTo>
                      <a:pt x="150" y="491"/>
                    </a:lnTo>
                    <a:lnTo>
                      <a:pt x="122" y="486"/>
                    </a:lnTo>
                    <a:lnTo>
                      <a:pt x="96" y="480"/>
                    </a:lnTo>
                    <a:lnTo>
                      <a:pt x="70" y="472"/>
                    </a:lnTo>
                    <a:lnTo>
                      <a:pt x="45" y="463"/>
                    </a:lnTo>
                    <a:lnTo>
                      <a:pt x="21" y="453"/>
                    </a:lnTo>
                    <a:lnTo>
                      <a:pt x="0" y="442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457200" y="4066920"/>
                <a:ext cx="3889440" cy="118800"/>
              </a:xfrm>
              <a:custGeom>
                <a:avLst/>
                <a:gdLst/>
                <a:ahLst/>
                <a:rect l="l" t="t" r="r" b="b"/>
                <a:pathLst>
                  <a:path w="9799" h="300">
                    <a:moveTo>
                      <a:pt x="9799" y="0"/>
                    </a:moveTo>
                    <a:lnTo>
                      <a:pt x="9782" y="1"/>
                    </a:lnTo>
                    <a:lnTo>
                      <a:pt x="9764" y="3"/>
                    </a:lnTo>
                    <a:lnTo>
                      <a:pt x="9743" y="5"/>
                    </a:lnTo>
                    <a:lnTo>
                      <a:pt x="9722" y="8"/>
                    </a:lnTo>
                    <a:lnTo>
                      <a:pt x="9696" y="11"/>
                    </a:lnTo>
                    <a:lnTo>
                      <a:pt x="9671" y="15"/>
                    </a:lnTo>
                    <a:lnTo>
                      <a:pt x="9644" y="19"/>
                    </a:lnTo>
                    <a:lnTo>
                      <a:pt x="9615" y="24"/>
                    </a:lnTo>
                    <a:lnTo>
                      <a:pt x="9547" y="29"/>
                    </a:lnTo>
                    <a:lnTo>
                      <a:pt x="9478" y="35"/>
                    </a:lnTo>
                    <a:lnTo>
                      <a:pt x="9406" y="42"/>
                    </a:lnTo>
                    <a:lnTo>
                      <a:pt x="9334" y="50"/>
                    </a:lnTo>
                    <a:lnTo>
                      <a:pt x="9259" y="58"/>
                    </a:lnTo>
                    <a:lnTo>
                      <a:pt x="9183" y="68"/>
                    </a:lnTo>
                    <a:lnTo>
                      <a:pt x="9104" y="79"/>
                    </a:lnTo>
                    <a:lnTo>
                      <a:pt x="9025" y="92"/>
                    </a:lnTo>
                    <a:lnTo>
                      <a:pt x="8798" y="125"/>
                    </a:lnTo>
                    <a:lnTo>
                      <a:pt x="8574" y="160"/>
                    </a:lnTo>
                    <a:lnTo>
                      <a:pt x="8510" y="168"/>
                    </a:lnTo>
                    <a:lnTo>
                      <a:pt x="8446" y="175"/>
                    </a:lnTo>
                    <a:lnTo>
                      <a:pt x="8429" y="175"/>
                    </a:lnTo>
                    <a:lnTo>
                      <a:pt x="8413" y="176"/>
                    </a:lnTo>
                    <a:lnTo>
                      <a:pt x="8381" y="178"/>
                    </a:lnTo>
                    <a:lnTo>
                      <a:pt x="8314" y="181"/>
                    </a:lnTo>
                    <a:lnTo>
                      <a:pt x="8246" y="180"/>
                    </a:lnTo>
                    <a:lnTo>
                      <a:pt x="8178" y="177"/>
                    </a:lnTo>
                    <a:lnTo>
                      <a:pt x="8160" y="175"/>
                    </a:lnTo>
                    <a:lnTo>
                      <a:pt x="8155" y="174"/>
                    </a:lnTo>
                    <a:lnTo>
                      <a:pt x="8151" y="174"/>
                    </a:lnTo>
                    <a:lnTo>
                      <a:pt x="8143" y="174"/>
                    </a:lnTo>
                    <a:lnTo>
                      <a:pt x="8109" y="172"/>
                    </a:lnTo>
                    <a:lnTo>
                      <a:pt x="8038" y="165"/>
                    </a:lnTo>
                    <a:lnTo>
                      <a:pt x="7968" y="156"/>
                    </a:lnTo>
                    <a:lnTo>
                      <a:pt x="7897" y="151"/>
                    </a:lnTo>
                    <a:lnTo>
                      <a:pt x="7860" y="148"/>
                    </a:lnTo>
                    <a:lnTo>
                      <a:pt x="7823" y="147"/>
                    </a:lnTo>
                    <a:lnTo>
                      <a:pt x="7747" y="146"/>
                    </a:lnTo>
                    <a:lnTo>
                      <a:pt x="7668" y="147"/>
                    </a:lnTo>
                    <a:lnTo>
                      <a:pt x="7589" y="150"/>
                    </a:lnTo>
                    <a:lnTo>
                      <a:pt x="7505" y="155"/>
                    </a:lnTo>
                    <a:lnTo>
                      <a:pt x="7463" y="158"/>
                    </a:lnTo>
                    <a:lnTo>
                      <a:pt x="7421" y="163"/>
                    </a:lnTo>
                    <a:lnTo>
                      <a:pt x="7377" y="166"/>
                    </a:lnTo>
                    <a:lnTo>
                      <a:pt x="7336" y="167"/>
                    </a:lnTo>
                    <a:lnTo>
                      <a:pt x="7295" y="165"/>
                    </a:lnTo>
                    <a:lnTo>
                      <a:pt x="7256" y="162"/>
                    </a:lnTo>
                    <a:lnTo>
                      <a:pt x="7198" y="153"/>
                    </a:lnTo>
                    <a:lnTo>
                      <a:pt x="7139" y="145"/>
                    </a:lnTo>
                    <a:lnTo>
                      <a:pt x="7017" y="132"/>
                    </a:lnTo>
                    <a:lnTo>
                      <a:pt x="6953" y="126"/>
                    </a:lnTo>
                    <a:lnTo>
                      <a:pt x="6889" y="121"/>
                    </a:lnTo>
                    <a:lnTo>
                      <a:pt x="6824" y="116"/>
                    </a:lnTo>
                    <a:lnTo>
                      <a:pt x="6758" y="112"/>
                    </a:lnTo>
                    <a:lnTo>
                      <a:pt x="6672" y="106"/>
                    </a:lnTo>
                    <a:lnTo>
                      <a:pt x="6589" y="102"/>
                    </a:lnTo>
                    <a:lnTo>
                      <a:pt x="6508" y="99"/>
                    </a:lnTo>
                    <a:lnTo>
                      <a:pt x="6429" y="98"/>
                    </a:lnTo>
                    <a:lnTo>
                      <a:pt x="6352" y="96"/>
                    </a:lnTo>
                    <a:lnTo>
                      <a:pt x="6278" y="96"/>
                    </a:lnTo>
                    <a:lnTo>
                      <a:pt x="6206" y="97"/>
                    </a:lnTo>
                    <a:lnTo>
                      <a:pt x="6136" y="100"/>
                    </a:lnTo>
                    <a:lnTo>
                      <a:pt x="6042" y="102"/>
                    </a:lnTo>
                    <a:lnTo>
                      <a:pt x="5994" y="102"/>
                    </a:lnTo>
                    <a:lnTo>
                      <a:pt x="5945" y="104"/>
                    </a:lnTo>
                    <a:lnTo>
                      <a:pt x="5842" y="106"/>
                    </a:lnTo>
                    <a:lnTo>
                      <a:pt x="5790" y="106"/>
                    </a:lnTo>
                    <a:lnTo>
                      <a:pt x="5737" y="108"/>
                    </a:lnTo>
                    <a:lnTo>
                      <a:pt x="5651" y="109"/>
                    </a:lnTo>
                    <a:lnTo>
                      <a:pt x="5569" y="114"/>
                    </a:lnTo>
                    <a:lnTo>
                      <a:pt x="5492" y="119"/>
                    </a:lnTo>
                    <a:lnTo>
                      <a:pt x="5420" y="128"/>
                    </a:lnTo>
                    <a:lnTo>
                      <a:pt x="5351" y="137"/>
                    </a:lnTo>
                    <a:lnTo>
                      <a:pt x="5288" y="150"/>
                    </a:lnTo>
                    <a:lnTo>
                      <a:pt x="5230" y="165"/>
                    </a:lnTo>
                    <a:lnTo>
                      <a:pt x="5177" y="182"/>
                    </a:lnTo>
                    <a:lnTo>
                      <a:pt x="5124" y="188"/>
                    </a:lnTo>
                    <a:lnTo>
                      <a:pt x="5069" y="194"/>
                    </a:lnTo>
                    <a:lnTo>
                      <a:pt x="5014" y="200"/>
                    </a:lnTo>
                    <a:lnTo>
                      <a:pt x="4958" y="206"/>
                    </a:lnTo>
                    <a:lnTo>
                      <a:pt x="4842" y="218"/>
                    </a:lnTo>
                    <a:lnTo>
                      <a:pt x="4781" y="224"/>
                    </a:lnTo>
                    <a:lnTo>
                      <a:pt x="4720" y="232"/>
                    </a:lnTo>
                    <a:lnTo>
                      <a:pt x="4424" y="262"/>
                    </a:lnTo>
                    <a:lnTo>
                      <a:pt x="4126" y="295"/>
                    </a:lnTo>
                    <a:lnTo>
                      <a:pt x="4095" y="297"/>
                    </a:lnTo>
                    <a:lnTo>
                      <a:pt x="4066" y="299"/>
                    </a:lnTo>
                    <a:lnTo>
                      <a:pt x="4038" y="299"/>
                    </a:lnTo>
                    <a:lnTo>
                      <a:pt x="4012" y="300"/>
                    </a:lnTo>
                    <a:lnTo>
                      <a:pt x="3985" y="298"/>
                    </a:lnTo>
                    <a:lnTo>
                      <a:pt x="3961" y="297"/>
                    </a:lnTo>
                    <a:lnTo>
                      <a:pt x="3937" y="294"/>
                    </a:lnTo>
                    <a:lnTo>
                      <a:pt x="3915" y="291"/>
                    </a:lnTo>
                    <a:lnTo>
                      <a:pt x="3892" y="286"/>
                    </a:lnTo>
                    <a:lnTo>
                      <a:pt x="3872" y="281"/>
                    </a:lnTo>
                    <a:lnTo>
                      <a:pt x="3852" y="274"/>
                    </a:lnTo>
                    <a:lnTo>
                      <a:pt x="3834" y="267"/>
                    </a:lnTo>
                    <a:lnTo>
                      <a:pt x="3816" y="258"/>
                    </a:lnTo>
                    <a:lnTo>
                      <a:pt x="3800" y="250"/>
                    </a:lnTo>
                    <a:lnTo>
                      <a:pt x="3784" y="240"/>
                    </a:lnTo>
                    <a:lnTo>
                      <a:pt x="3770" y="230"/>
                    </a:lnTo>
                    <a:lnTo>
                      <a:pt x="3735" y="204"/>
                    </a:lnTo>
                    <a:lnTo>
                      <a:pt x="3699" y="181"/>
                    </a:lnTo>
                    <a:lnTo>
                      <a:pt x="3661" y="158"/>
                    </a:lnTo>
                    <a:lnTo>
                      <a:pt x="3622" y="137"/>
                    </a:lnTo>
                    <a:lnTo>
                      <a:pt x="3579" y="116"/>
                    </a:lnTo>
                    <a:lnTo>
                      <a:pt x="3536" y="98"/>
                    </a:lnTo>
                    <a:lnTo>
                      <a:pt x="3489" y="79"/>
                    </a:lnTo>
                    <a:lnTo>
                      <a:pt x="3441" y="64"/>
                    </a:lnTo>
                    <a:lnTo>
                      <a:pt x="3411" y="54"/>
                    </a:lnTo>
                    <a:lnTo>
                      <a:pt x="3381" y="46"/>
                    </a:lnTo>
                    <a:lnTo>
                      <a:pt x="3349" y="39"/>
                    </a:lnTo>
                    <a:lnTo>
                      <a:pt x="3318" y="34"/>
                    </a:lnTo>
                    <a:lnTo>
                      <a:pt x="3285" y="29"/>
                    </a:lnTo>
                    <a:lnTo>
                      <a:pt x="3252" y="26"/>
                    </a:lnTo>
                    <a:lnTo>
                      <a:pt x="3218" y="23"/>
                    </a:lnTo>
                    <a:lnTo>
                      <a:pt x="3183" y="22"/>
                    </a:lnTo>
                    <a:lnTo>
                      <a:pt x="3146" y="21"/>
                    </a:lnTo>
                    <a:lnTo>
                      <a:pt x="3110" y="22"/>
                    </a:lnTo>
                    <a:lnTo>
                      <a:pt x="3072" y="23"/>
                    </a:lnTo>
                    <a:lnTo>
                      <a:pt x="3035" y="27"/>
                    </a:lnTo>
                    <a:lnTo>
                      <a:pt x="2996" y="30"/>
                    </a:lnTo>
                    <a:lnTo>
                      <a:pt x="2957" y="36"/>
                    </a:lnTo>
                    <a:lnTo>
                      <a:pt x="2916" y="42"/>
                    </a:lnTo>
                    <a:lnTo>
                      <a:pt x="2875" y="50"/>
                    </a:lnTo>
                    <a:lnTo>
                      <a:pt x="2762" y="52"/>
                    </a:lnTo>
                    <a:lnTo>
                      <a:pt x="2646" y="54"/>
                    </a:lnTo>
                    <a:lnTo>
                      <a:pt x="2509" y="52"/>
                    </a:lnTo>
                    <a:lnTo>
                      <a:pt x="2413" y="51"/>
                    </a:lnTo>
                    <a:lnTo>
                      <a:pt x="2318" y="54"/>
                    </a:lnTo>
                    <a:lnTo>
                      <a:pt x="2288" y="54"/>
                    </a:lnTo>
                    <a:lnTo>
                      <a:pt x="2194" y="57"/>
                    </a:lnTo>
                    <a:lnTo>
                      <a:pt x="2102" y="64"/>
                    </a:lnTo>
                    <a:lnTo>
                      <a:pt x="1917" y="83"/>
                    </a:lnTo>
                    <a:lnTo>
                      <a:pt x="1884" y="81"/>
                    </a:lnTo>
                    <a:lnTo>
                      <a:pt x="1850" y="82"/>
                    </a:lnTo>
                    <a:lnTo>
                      <a:pt x="1814" y="85"/>
                    </a:lnTo>
                    <a:lnTo>
                      <a:pt x="1779" y="91"/>
                    </a:lnTo>
                    <a:lnTo>
                      <a:pt x="1734" y="98"/>
                    </a:lnTo>
                    <a:lnTo>
                      <a:pt x="1688" y="108"/>
                    </a:lnTo>
                    <a:lnTo>
                      <a:pt x="1640" y="121"/>
                    </a:lnTo>
                    <a:lnTo>
                      <a:pt x="1615" y="128"/>
                    </a:lnTo>
                    <a:lnTo>
                      <a:pt x="1591" y="137"/>
                    </a:lnTo>
                    <a:lnTo>
                      <a:pt x="1546" y="125"/>
                    </a:lnTo>
                    <a:lnTo>
                      <a:pt x="1523" y="120"/>
                    </a:lnTo>
                    <a:lnTo>
                      <a:pt x="1501" y="117"/>
                    </a:lnTo>
                    <a:lnTo>
                      <a:pt x="1477" y="113"/>
                    </a:lnTo>
                    <a:lnTo>
                      <a:pt x="1454" y="111"/>
                    </a:lnTo>
                    <a:lnTo>
                      <a:pt x="1405" y="110"/>
                    </a:lnTo>
                    <a:lnTo>
                      <a:pt x="1375" y="109"/>
                    </a:lnTo>
                    <a:lnTo>
                      <a:pt x="1346" y="110"/>
                    </a:lnTo>
                    <a:lnTo>
                      <a:pt x="1285" y="115"/>
                    </a:lnTo>
                    <a:lnTo>
                      <a:pt x="1252" y="118"/>
                    </a:lnTo>
                    <a:lnTo>
                      <a:pt x="1220" y="123"/>
                    </a:lnTo>
                    <a:lnTo>
                      <a:pt x="1187" y="129"/>
                    </a:lnTo>
                    <a:lnTo>
                      <a:pt x="1155" y="137"/>
                    </a:lnTo>
                    <a:lnTo>
                      <a:pt x="1135" y="124"/>
                    </a:lnTo>
                    <a:lnTo>
                      <a:pt x="1114" y="113"/>
                    </a:lnTo>
                    <a:lnTo>
                      <a:pt x="1092" y="103"/>
                    </a:lnTo>
                    <a:lnTo>
                      <a:pt x="1070" y="96"/>
                    </a:lnTo>
                    <a:lnTo>
                      <a:pt x="1039" y="86"/>
                    </a:lnTo>
                    <a:lnTo>
                      <a:pt x="1006" y="80"/>
                    </a:lnTo>
                    <a:lnTo>
                      <a:pt x="972" y="75"/>
                    </a:lnTo>
                    <a:lnTo>
                      <a:pt x="937" y="74"/>
                    </a:lnTo>
                    <a:lnTo>
                      <a:pt x="918" y="73"/>
                    </a:lnTo>
                    <a:lnTo>
                      <a:pt x="900" y="74"/>
                    </a:lnTo>
                    <a:lnTo>
                      <a:pt x="861" y="77"/>
                    </a:lnTo>
                    <a:lnTo>
                      <a:pt x="820" y="82"/>
                    </a:lnTo>
                    <a:lnTo>
                      <a:pt x="799" y="85"/>
                    </a:lnTo>
                    <a:lnTo>
                      <a:pt x="779" y="91"/>
                    </a:lnTo>
                    <a:lnTo>
                      <a:pt x="702" y="103"/>
                    </a:lnTo>
                    <a:lnTo>
                      <a:pt x="628" y="114"/>
                    </a:lnTo>
                    <a:lnTo>
                      <a:pt x="555" y="123"/>
                    </a:lnTo>
                    <a:lnTo>
                      <a:pt x="485" y="130"/>
                    </a:lnTo>
                    <a:lnTo>
                      <a:pt x="413" y="133"/>
                    </a:lnTo>
                    <a:lnTo>
                      <a:pt x="345" y="136"/>
                    </a:lnTo>
                    <a:lnTo>
                      <a:pt x="278" y="136"/>
                    </a:lnTo>
                    <a:lnTo>
                      <a:pt x="214" y="135"/>
                    </a:lnTo>
                    <a:lnTo>
                      <a:pt x="182" y="132"/>
                    </a:lnTo>
                    <a:lnTo>
                      <a:pt x="153" y="130"/>
                    </a:lnTo>
                    <a:lnTo>
                      <a:pt x="124" y="126"/>
                    </a:lnTo>
                    <a:lnTo>
                      <a:pt x="98" y="123"/>
                    </a:lnTo>
                    <a:lnTo>
                      <a:pt x="71" y="118"/>
                    </a:lnTo>
                    <a:lnTo>
                      <a:pt x="46" y="113"/>
                    </a:lnTo>
                    <a:lnTo>
                      <a:pt x="22" y="107"/>
                    </a:lnTo>
                    <a:lnTo>
                      <a:pt x="0" y="101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830520" y="2209680"/>
            <a:ext cx="3650400" cy="3305880"/>
            <a:chOff x="830520" y="2209680"/>
            <a:chExt cx="3650400" cy="3305880"/>
          </a:xfrm>
        </p:grpSpPr>
        <p:sp>
          <p:nvSpPr>
            <p:cNvPr id="514" name=""/>
            <p:cNvSpPr/>
            <p:nvPr/>
          </p:nvSpPr>
          <p:spPr>
            <a:xfrm>
              <a:off x="1269720" y="2425680"/>
              <a:ext cx="2881440" cy="2881080"/>
            </a:xfrm>
            <a:prstGeom prst="rtTriangl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830520" y="2209680"/>
              <a:ext cx="3650400" cy="3305880"/>
              <a:chOff x="830520" y="2209680"/>
              <a:chExt cx="3650400" cy="3305880"/>
            </a:xfrm>
          </p:grpSpPr>
          <p:sp>
            <p:nvSpPr>
              <p:cNvPr id="516" name=""/>
              <p:cNvSpPr/>
              <p:nvPr/>
            </p:nvSpPr>
            <p:spPr>
              <a:xfrm>
                <a:off x="910080" y="22096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14760" y="4266720"/>
                <a:ext cx="185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66560" y="4266720"/>
                <a:ext cx="184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0520" y="500472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93400" y="505584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838080" y="4038480"/>
            <a:ext cx="2724840" cy="577800"/>
            <a:chOff x="838080" y="4038480"/>
            <a:chExt cx="2724840" cy="577800"/>
          </a:xfrm>
        </p:grpSpPr>
        <p:sp>
          <p:nvSpPr>
            <p:cNvPr id="522" name=""/>
            <p:cNvSpPr/>
            <p:nvPr/>
          </p:nvSpPr>
          <p:spPr>
            <a:xfrm>
              <a:off x="1269720" y="4182840"/>
              <a:ext cx="16585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409572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6240" y="4038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295280" y="2438280"/>
            <a:ext cx="1656000" cy="1657440"/>
          </a:xfrm>
          <a:prstGeom prst="rtTriangle">
            <a:avLst/>
          </a:prstGeom>
          <a:noFill/>
          <a:ln w="9360">
            <a:solidFill>
              <a:srgbClr val="b20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12408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如果测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求两岸间的大致距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归纳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量河的宽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测量原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不能直接到达的两点间的距离，常构造相似三角形求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测量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259092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在河的这一边选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⊥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选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⊥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视线确定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交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时如果测得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D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C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C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长，根据相似三角形对应边的比求出河宽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447920"/>
            <a:ext cx="44197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太阳光线可以看成是平行光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990720" y="2438280"/>
            <a:ext cx="76197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23880" y="837360"/>
            <a:ext cx="3200400" cy="680760"/>
            <a:chOff x="1523880" y="837360"/>
            <a:chExt cx="3200400" cy="680760"/>
          </a:xfrm>
        </p:grpSpPr>
        <p:sp>
          <p:nvSpPr>
            <p:cNvPr id="532" name=""/>
            <p:cNvSpPr/>
            <p:nvPr/>
          </p:nvSpPr>
          <p:spPr>
            <a:xfrm>
              <a:off x="2293920" y="947520"/>
              <a:ext cx="243036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 rot="16200000">
              <a:off x="1607040" y="753480"/>
              <a:ext cx="476280" cy="642960"/>
            </a:xfrm>
            <a:custGeom>
              <a:avLst/>
              <a:gdLst>
                <a:gd name="textAreaLeft" fmla="*/ 158400 w 476280"/>
                <a:gd name="textAreaRight" fmla="*/ 407520 w 476280"/>
                <a:gd name="textAreaTop" fmla="*/ 457200 h 642960"/>
                <a:gd name="textAreaBottom" fmla="*/ 5511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49"/>
                  </a:moveTo>
                  <a:lnTo>
                    <a:pt x="15349" y="18449"/>
                  </a:lnTo>
                  <a:lnTo>
                    <a:pt x="15349" y="7200"/>
                  </a:lnTo>
                  <a:lnTo>
                    <a:pt x="12249" y="7200"/>
                  </a:lnTo>
                  <a:lnTo>
                    <a:pt x="16925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581280" y="1752480"/>
            <a:ext cx="327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测距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2514600"/>
            <a:ext cx="7391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测量不能到达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常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构造相似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81280" y="4114800"/>
            <a:ext cx="3276720" cy="10666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1148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4114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52578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586728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609480" y="0"/>
            <a:ext cx="7999920" cy="6525000"/>
            <a:chOff x="609480" y="0"/>
            <a:chExt cx="7999920" cy="6525000"/>
          </a:xfrm>
        </p:grpSpPr>
        <p:grpSp>
          <p:nvGrpSpPr>
            <p:cNvPr id="542" name=""/>
            <p:cNvGrpSpPr/>
            <p:nvPr/>
          </p:nvGrpSpPr>
          <p:grpSpPr>
            <a:xfrm>
              <a:off x="609480" y="0"/>
              <a:ext cx="7999920" cy="6525000"/>
              <a:chOff x="609480" y="0"/>
              <a:chExt cx="7999920" cy="652500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609480" y="0"/>
                <a:ext cx="7999920" cy="6525000"/>
                <a:chOff x="609480" y="0"/>
                <a:chExt cx="7999920" cy="65250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09480" y="0"/>
                  <a:ext cx="7999920" cy="6525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如图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小东设计两个直角来测量河宽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DE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他量得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AD=2m,BD=3m,CE=9m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则河宽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DE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为 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(   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                                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(A).5m    (B).4m                                               (c).6m     (D).8m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       </a:t>
                  </a:r>
                  <a:r>
                    <a:rPr b="1" lang="zh-CN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如图，小明在打网球时，使球恰好能打过网，而且落在离网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米的位置上，求球拍击球的高度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h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.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                                                    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0840" y="3213720"/>
                  <a:ext cx="7587360" cy="2362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46" name=""/>
                <p:cNvGrpSpPr/>
                <p:nvPr/>
              </p:nvGrpSpPr>
              <p:grpSpPr>
                <a:xfrm>
                  <a:off x="1103760" y="1224360"/>
                  <a:ext cx="3546720" cy="1988640"/>
                  <a:chOff x="1103760" y="1224360"/>
                  <a:chExt cx="3546720" cy="19886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1594800" y="1298880"/>
                    <a:ext cx="0" cy="162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594800" y="2919240"/>
                    <a:ext cx="2445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594800" y="1298880"/>
                    <a:ext cx="2445840" cy="162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183480" y="2329920"/>
                    <a:ext cx="0" cy="589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103760" y="277128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307320" y="225504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103760" y="122436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C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695320" y="284472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795480" y="277128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"/>
              <p:cNvSpPr/>
              <p:nvPr/>
            </p:nvSpPr>
            <p:spPr>
              <a:xfrm>
                <a:off x="690840" y="3214080"/>
                <a:ext cx="76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856800" y="3360600"/>
              <a:ext cx="1567080" cy="81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2" action="ppaction://hlinksldjump"/>
            </p:cNvPr>
            <p:cNvSpPr/>
            <p:nvPr/>
          </p:nvSpPr>
          <p:spPr>
            <a:xfrm>
              <a:off x="1103760" y="3435120"/>
              <a:ext cx="123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方法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利用标杆测量物体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143000" y="2286000"/>
            <a:ext cx="6629400" cy="3797280"/>
            <a:chOff x="1143000" y="2286000"/>
            <a:chExt cx="6629400" cy="3797280"/>
          </a:xfrm>
        </p:grpSpPr>
        <p:grpSp>
          <p:nvGrpSpPr>
            <p:cNvPr id="562" name=""/>
            <p:cNvGrpSpPr/>
            <p:nvPr/>
          </p:nvGrpSpPr>
          <p:grpSpPr>
            <a:xfrm>
              <a:off x="1143000" y="2286000"/>
              <a:ext cx="6629400" cy="3797280"/>
              <a:chOff x="1143000" y="2286000"/>
              <a:chExt cx="6629400" cy="3797280"/>
            </a:xfrm>
          </p:grpSpPr>
          <p:sp>
            <p:nvSpPr>
              <p:cNvPr id="563" name=""/>
              <p:cNvSpPr/>
              <p:nvPr/>
            </p:nvSpPr>
            <p:spPr>
              <a:xfrm>
                <a:off x="1143000" y="5562720"/>
                <a:ext cx="66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58000" y="2743200"/>
                <a:ext cx="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58000" y="2743200"/>
                <a:ext cx="380880" cy="380880"/>
              </a:xfrm>
              <a:prstGeom prst="flowChartPunchedTap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29000" y="43434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2209320" y="4724280"/>
                <a:ext cx="305280" cy="838080"/>
                <a:chOff x="2209320" y="4724280"/>
                <a:chExt cx="305280" cy="838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286000" y="4724280"/>
                  <a:ext cx="228600" cy="228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361960" y="4952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2209320" y="50292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361960" y="502920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2209320" y="533376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361960" y="5333760"/>
                  <a:ext cx="1526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 flipH="1">
                <a:off x="2514240" y="2743200"/>
                <a:ext cx="4343400" cy="1981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14600" y="4724280"/>
                <a:ext cx="43434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29400" y="54864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24080" y="38098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8120" y="55627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33720" y="419112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33720" y="55627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000" y="44197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429000" y="4724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29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2940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672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767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238560" y="2495520"/>
            <a:ext cx="3278160" cy="16826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28480" y="1362240"/>
            <a:ext cx="628668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74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“标杆和视角”构建三角形，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模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3760" y="4898880"/>
            <a:ext cx="8556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ubRRectCallout"/>
          <p:cNvSpPr/>
          <p:nvPr/>
        </p:nvSpPr>
        <p:spPr>
          <a:xfrm>
            <a:off x="1332000" y="3500280"/>
            <a:ext cx="4032000" cy="1368720"/>
          </a:xfrm>
          <a:custGeom>
            <a:avLst/>
            <a:gdLst>
              <a:gd name="textAreaLeft" fmla="*/ 27000 w 4032000"/>
              <a:gd name="textAreaRight" fmla="*/ 3996360 w 4032000"/>
              <a:gd name="textAreaTop" fmla="*/ 9000 h 1368720"/>
              <a:gd name="textAreaBottom" fmla="*/ 1083960 h 1368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0" y="1159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已知左，右并排的两棵大树的高分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=8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=1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两树的根部的距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=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一个身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6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沿着正对着两棵树的一条水平直路从左向右前进，当他与左边较低的树的距离小于多少时，就不能看见右边较高的树的顶端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64360" y="4221000"/>
            <a:ext cx="719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67280" y="53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6300720" y="3789360"/>
            <a:ext cx="917640" cy="2562120"/>
          </a:xfrm>
          <a:custGeom>
            <a:avLst/>
            <a:gdLst/>
            <a:ahLst/>
            <a:rect l="l" t="t" r="r" b="b"/>
            <a:pathLst>
              <a:path w="578" h="1614">
                <a:moveTo>
                  <a:pt x="98" y="1548"/>
                </a:moveTo>
                <a:cubicBezTo>
                  <a:pt x="77" y="1484"/>
                  <a:pt x="91" y="1510"/>
                  <a:pt x="62" y="1467"/>
                </a:cubicBezTo>
                <a:cubicBezTo>
                  <a:pt x="51" y="1362"/>
                  <a:pt x="20" y="1260"/>
                  <a:pt x="53" y="1152"/>
                </a:cubicBezTo>
                <a:cubicBezTo>
                  <a:pt x="58" y="1135"/>
                  <a:pt x="89" y="1146"/>
                  <a:pt x="107" y="1143"/>
                </a:cubicBezTo>
                <a:cubicBezTo>
                  <a:pt x="170" y="955"/>
                  <a:pt x="125" y="1108"/>
                  <a:pt x="134" y="666"/>
                </a:cubicBezTo>
                <a:cubicBezTo>
                  <a:pt x="131" y="651"/>
                  <a:pt x="117" y="634"/>
                  <a:pt x="125" y="621"/>
                </a:cubicBezTo>
                <a:cubicBezTo>
                  <a:pt x="139" y="600"/>
                  <a:pt x="231" y="624"/>
                  <a:pt x="125" y="603"/>
                </a:cubicBezTo>
                <a:cubicBezTo>
                  <a:pt x="122" y="546"/>
                  <a:pt x="123" y="489"/>
                  <a:pt x="116" y="432"/>
                </a:cubicBezTo>
                <a:cubicBezTo>
                  <a:pt x="114" y="413"/>
                  <a:pt x="98" y="378"/>
                  <a:pt x="98" y="378"/>
                </a:cubicBezTo>
                <a:cubicBezTo>
                  <a:pt x="89" y="312"/>
                  <a:pt x="93" y="307"/>
                  <a:pt x="35" y="288"/>
                </a:cubicBezTo>
                <a:cubicBezTo>
                  <a:pt x="27" y="276"/>
                  <a:pt x="0" y="251"/>
                  <a:pt x="26" y="234"/>
                </a:cubicBezTo>
                <a:cubicBezTo>
                  <a:pt x="49" y="219"/>
                  <a:pt x="81" y="224"/>
                  <a:pt x="107" y="216"/>
                </a:cubicBezTo>
                <a:cubicBezTo>
                  <a:pt x="162" y="199"/>
                  <a:pt x="203" y="173"/>
                  <a:pt x="260" y="162"/>
                </a:cubicBezTo>
                <a:cubicBezTo>
                  <a:pt x="289" y="143"/>
                  <a:pt x="319" y="133"/>
                  <a:pt x="350" y="117"/>
                </a:cubicBezTo>
                <a:cubicBezTo>
                  <a:pt x="356" y="108"/>
                  <a:pt x="360" y="97"/>
                  <a:pt x="368" y="90"/>
                </a:cubicBezTo>
                <a:cubicBezTo>
                  <a:pt x="375" y="84"/>
                  <a:pt x="387" y="85"/>
                  <a:pt x="395" y="81"/>
                </a:cubicBezTo>
                <a:cubicBezTo>
                  <a:pt x="455" y="51"/>
                  <a:pt x="403" y="64"/>
                  <a:pt x="368" y="72"/>
                </a:cubicBezTo>
                <a:cubicBezTo>
                  <a:pt x="359" y="74"/>
                  <a:pt x="350" y="78"/>
                  <a:pt x="341" y="81"/>
                </a:cubicBezTo>
                <a:cubicBezTo>
                  <a:pt x="325" y="97"/>
                  <a:pt x="289" y="140"/>
                  <a:pt x="260" y="153"/>
                </a:cubicBezTo>
                <a:cubicBezTo>
                  <a:pt x="218" y="172"/>
                  <a:pt x="164" y="167"/>
                  <a:pt x="125" y="189"/>
                </a:cubicBezTo>
                <a:cubicBezTo>
                  <a:pt x="106" y="200"/>
                  <a:pt x="89" y="213"/>
                  <a:pt x="71" y="225"/>
                </a:cubicBezTo>
                <a:cubicBezTo>
                  <a:pt x="62" y="231"/>
                  <a:pt x="44" y="243"/>
                  <a:pt x="44" y="243"/>
                </a:cubicBezTo>
                <a:cubicBezTo>
                  <a:pt x="53" y="237"/>
                  <a:pt x="61" y="229"/>
                  <a:pt x="71" y="225"/>
                </a:cubicBezTo>
                <a:cubicBezTo>
                  <a:pt x="88" y="217"/>
                  <a:pt x="125" y="207"/>
                  <a:pt x="125" y="207"/>
                </a:cubicBezTo>
                <a:cubicBezTo>
                  <a:pt x="194" y="138"/>
                  <a:pt x="309" y="105"/>
                  <a:pt x="404" y="81"/>
                </a:cubicBezTo>
                <a:cubicBezTo>
                  <a:pt x="413" y="75"/>
                  <a:pt x="421" y="68"/>
                  <a:pt x="431" y="63"/>
                </a:cubicBezTo>
                <a:cubicBezTo>
                  <a:pt x="439" y="59"/>
                  <a:pt x="458" y="63"/>
                  <a:pt x="458" y="54"/>
                </a:cubicBezTo>
                <a:cubicBezTo>
                  <a:pt x="458" y="43"/>
                  <a:pt x="440" y="42"/>
                  <a:pt x="431" y="36"/>
                </a:cubicBezTo>
                <a:cubicBezTo>
                  <a:pt x="467" y="27"/>
                  <a:pt x="490" y="20"/>
                  <a:pt x="521" y="0"/>
                </a:cubicBezTo>
                <a:cubicBezTo>
                  <a:pt x="495" y="78"/>
                  <a:pt x="507" y="162"/>
                  <a:pt x="494" y="243"/>
                </a:cubicBezTo>
                <a:cubicBezTo>
                  <a:pt x="497" y="498"/>
                  <a:pt x="503" y="753"/>
                  <a:pt x="503" y="1008"/>
                </a:cubicBezTo>
                <a:cubicBezTo>
                  <a:pt x="503" y="1464"/>
                  <a:pt x="578" y="1341"/>
                  <a:pt x="476" y="1494"/>
                </a:cubicBezTo>
                <a:cubicBezTo>
                  <a:pt x="467" y="1587"/>
                  <a:pt x="467" y="1614"/>
                  <a:pt x="467" y="1575"/>
                </a:cubicBezTo>
                <a:lnTo>
                  <a:pt x="498" y="1526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87280" y="4797360"/>
            <a:ext cx="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 rot="4830600">
            <a:off x="6541920" y="3806640"/>
            <a:ext cx="2608200" cy="2087280"/>
          </a:xfrm>
          <a:custGeom>
            <a:avLst/>
            <a:gdLst>
              <a:gd name="textAreaLeft" fmla="*/ 381960 w 2608200"/>
              <a:gd name="textAreaRight" fmla="*/ 2226240 w 2608200"/>
              <a:gd name="textAreaTop" fmla="*/ 229320 h 2087280"/>
              <a:gd name="textAreaBottom" fmla="*/ 1337040 h 20872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51640" y="3716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盲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6764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者看不到的区   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75080" y="3573360"/>
            <a:ext cx="115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仰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050920" y="357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：视线在水平 线以上的夹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92360" y="5589720"/>
            <a:ext cx="1368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水平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4581360"/>
            <a:ext cx="13665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视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8000" y="5229360"/>
            <a:ext cx="1008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8000" y="5805360"/>
            <a:ext cx="31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观察者眼睛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623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714920" y="5157720"/>
            <a:ext cx="244440" cy="9572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351320" y="5084640"/>
            <a:ext cx="152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71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718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81120" y="5300640"/>
            <a:ext cx="1494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71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718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48000" y="3717720"/>
            <a:ext cx="388800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27640" y="558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69760" y="6165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036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92720" y="623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5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348000" y="3716280"/>
            <a:ext cx="3888000" cy="18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07672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169760" y="6165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未知"/>
          <p:cNvSpPr/>
          <p:nvPr/>
        </p:nvSpPr>
        <p:spPr>
          <a:xfrm>
            <a:off x="4788000" y="4797360"/>
            <a:ext cx="1512720" cy="1511280"/>
          </a:xfrm>
          <a:custGeom>
            <a:avLst/>
            <a:gdLst/>
            <a:ahLst/>
            <a:rect l="l" t="t" r="r" b="b"/>
            <a:pathLst>
              <a:path w="878" h="961">
                <a:moveTo>
                  <a:pt x="4" y="197"/>
                </a:moveTo>
                <a:cubicBezTo>
                  <a:pt x="89" y="169"/>
                  <a:pt x="39" y="181"/>
                  <a:pt x="157" y="170"/>
                </a:cubicBezTo>
                <a:cubicBezTo>
                  <a:pt x="230" y="146"/>
                  <a:pt x="190" y="145"/>
                  <a:pt x="292" y="134"/>
                </a:cubicBezTo>
                <a:cubicBezTo>
                  <a:pt x="366" y="109"/>
                  <a:pt x="250" y="146"/>
                  <a:pt x="409" y="116"/>
                </a:cubicBezTo>
                <a:cubicBezTo>
                  <a:pt x="428" y="113"/>
                  <a:pt x="444" y="100"/>
                  <a:pt x="463" y="98"/>
                </a:cubicBezTo>
                <a:cubicBezTo>
                  <a:pt x="496" y="95"/>
                  <a:pt x="529" y="92"/>
                  <a:pt x="562" y="89"/>
                </a:cubicBezTo>
                <a:cubicBezTo>
                  <a:pt x="610" y="73"/>
                  <a:pt x="581" y="85"/>
                  <a:pt x="643" y="44"/>
                </a:cubicBezTo>
                <a:cubicBezTo>
                  <a:pt x="652" y="38"/>
                  <a:pt x="680" y="23"/>
                  <a:pt x="670" y="26"/>
                </a:cubicBezTo>
                <a:cubicBezTo>
                  <a:pt x="628" y="40"/>
                  <a:pt x="652" y="33"/>
                  <a:pt x="598" y="44"/>
                </a:cubicBezTo>
                <a:cubicBezTo>
                  <a:pt x="536" y="85"/>
                  <a:pt x="485" y="99"/>
                  <a:pt x="409" y="107"/>
                </a:cubicBezTo>
                <a:cubicBezTo>
                  <a:pt x="400" y="110"/>
                  <a:pt x="391" y="115"/>
                  <a:pt x="382" y="116"/>
                </a:cubicBezTo>
                <a:cubicBezTo>
                  <a:pt x="304" y="126"/>
                  <a:pt x="268" y="124"/>
                  <a:pt x="202" y="143"/>
                </a:cubicBezTo>
                <a:cubicBezTo>
                  <a:pt x="193" y="146"/>
                  <a:pt x="184" y="149"/>
                  <a:pt x="175" y="152"/>
                </a:cubicBezTo>
                <a:cubicBezTo>
                  <a:pt x="163" y="155"/>
                  <a:pt x="127" y="161"/>
                  <a:pt x="139" y="161"/>
                </a:cubicBezTo>
                <a:cubicBezTo>
                  <a:pt x="184" y="161"/>
                  <a:pt x="229" y="155"/>
                  <a:pt x="274" y="152"/>
                </a:cubicBezTo>
                <a:cubicBezTo>
                  <a:pt x="322" y="136"/>
                  <a:pt x="293" y="148"/>
                  <a:pt x="355" y="107"/>
                </a:cubicBezTo>
                <a:cubicBezTo>
                  <a:pt x="371" y="96"/>
                  <a:pt x="391" y="95"/>
                  <a:pt x="409" y="89"/>
                </a:cubicBezTo>
                <a:cubicBezTo>
                  <a:pt x="427" y="83"/>
                  <a:pt x="463" y="71"/>
                  <a:pt x="463" y="71"/>
                </a:cubicBezTo>
                <a:cubicBezTo>
                  <a:pt x="499" y="74"/>
                  <a:pt x="607" y="80"/>
                  <a:pt x="571" y="80"/>
                </a:cubicBezTo>
                <a:cubicBezTo>
                  <a:pt x="529" y="80"/>
                  <a:pt x="426" y="109"/>
                  <a:pt x="445" y="71"/>
                </a:cubicBezTo>
                <a:cubicBezTo>
                  <a:pt x="465" y="31"/>
                  <a:pt x="535" y="65"/>
                  <a:pt x="580" y="62"/>
                </a:cubicBezTo>
                <a:cubicBezTo>
                  <a:pt x="607" y="44"/>
                  <a:pt x="634" y="35"/>
                  <a:pt x="661" y="17"/>
                </a:cubicBezTo>
                <a:cubicBezTo>
                  <a:pt x="791" y="29"/>
                  <a:pt x="748" y="0"/>
                  <a:pt x="778" y="89"/>
                </a:cubicBezTo>
                <a:cubicBezTo>
                  <a:pt x="778" y="92"/>
                  <a:pt x="799" y="360"/>
                  <a:pt x="805" y="377"/>
                </a:cubicBezTo>
                <a:cubicBezTo>
                  <a:pt x="809" y="389"/>
                  <a:pt x="829" y="383"/>
                  <a:pt x="841" y="386"/>
                </a:cubicBezTo>
                <a:cubicBezTo>
                  <a:pt x="861" y="417"/>
                  <a:pt x="868" y="440"/>
                  <a:pt x="877" y="476"/>
                </a:cubicBezTo>
                <a:cubicBezTo>
                  <a:pt x="866" y="594"/>
                  <a:pt x="878" y="544"/>
                  <a:pt x="850" y="629"/>
                </a:cubicBezTo>
                <a:cubicBezTo>
                  <a:pt x="844" y="647"/>
                  <a:pt x="838" y="665"/>
                  <a:pt x="832" y="683"/>
                </a:cubicBezTo>
                <a:cubicBezTo>
                  <a:pt x="829" y="692"/>
                  <a:pt x="823" y="710"/>
                  <a:pt x="823" y="710"/>
                </a:cubicBezTo>
                <a:cubicBezTo>
                  <a:pt x="822" y="715"/>
                  <a:pt x="814" y="793"/>
                  <a:pt x="805" y="800"/>
                </a:cubicBezTo>
                <a:cubicBezTo>
                  <a:pt x="790" y="811"/>
                  <a:pt x="751" y="818"/>
                  <a:pt x="751" y="818"/>
                </a:cubicBezTo>
                <a:cubicBezTo>
                  <a:pt x="605" y="816"/>
                  <a:pt x="225" y="961"/>
                  <a:pt x="76" y="782"/>
                </a:cubicBezTo>
                <a:cubicBezTo>
                  <a:pt x="38" y="737"/>
                  <a:pt x="81" y="770"/>
                  <a:pt x="31" y="737"/>
                </a:cubicBezTo>
                <a:cubicBezTo>
                  <a:pt x="0" y="643"/>
                  <a:pt x="10" y="684"/>
                  <a:pt x="31" y="485"/>
                </a:cubicBezTo>
                <a:cubicBezTo>
                  <a:pt x="32" y="474"/>
                  <a:pt x="45" y="468"/>
                  <a:pt x="49" y="458"/>
                </a:cubicBezTo>
                <a:cubicBezTo>
                  <a:pt x="57" y="441"/>
                  <a:pt x="61" y="422"/>
                  <a:pt x="67" y="404"/>
                </a:cubicBezTo>
                <a:cubicBezTo>
                  <a:pt x="70" y="395"/>
                  <a:pt x="76" y="377"/>
                  <a:pt x="76" y="377"/>
                </a:cubicBezTo>
                <a:cubicBezTo>
                  <a:pt x="73" y="320"/>
                  <a:pt x="78" y="262"/>
                  <a:pt x="67" y="206"/>
                </a:cubicBezTo>
                <a:cubicBezTo>
                  <a:pt x="65" y="197"/>
                  <a:pt x="48" y="193"/>
                  <a:pt x="40" y="197"/>
                </a:cubicBezTo>
                <a:cubicBezTo>
                  <a:pt x="32" y="201"/>
                  <a:pt x="34" y="215"/>
                  <a:pt x="31" y="224"/>
                </a:cubicBezTo>
                <a:cubicBezTo>
                  <a:pt x="93" y="234"/>
                  <a:pt x="98" y="220"/>
                  <a:pt x="67" y="251"/>
                </a:cubicBezTo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49960" y="50133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5516640"/>
            <a:ext cx="43164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2843280" y="188640"/>
            <a:ext cx="5473800" cy="4121280"/>
            <a:chOff x="2843280" y="188640"/>
            <a:chExt cx="5473800" cy="4121280"/>
          </a:xfrm>
        </p:grpSpPr>
        <p:pic>
          <p:nvPicPr>
            <p:cNvPr id="645" name="" descr=""/>
            <p:cNvPicPr/>
            <p:nvPr/>
          </p:nvPicPr>
          <p:blipFill>
            <a:blip r:embed="rId1"/>
            <a:stretch/>
          </p:blipFill>
          <p:spPr>
            <a:xfrm>
              <a:off x="6228000" y="836640"/>
              <a:ext cx="574560" cy="27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"/>
            <a:stretch/>
          </p:blipFill>
          <p:spPr>
            <a:xfrm>
              <a:off x="4932360" y="1844640"/>
              <a:ext cx="34632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3"/>
            <a:stretch/>
          </p:blipFill>
          <p:spPr>
            <a:xfrm>
              <a:off x="3490920" y="2565360"/>
              <a:ext cx="360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2843280" y="3571920"/>
              <a:ext cx="525636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90920" y="2205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88000" y="1486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2360" y="357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8000" y="405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72360" y="3573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3640" y="2349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96360" y="2494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5004000" y="909720"/>
              <a:ext cx="1485720" cy="2662200"/>
            </a:xfrm>
            <a:custGeom>
              <a:avLst/>
              <a:gdLst/>
              <a:ahLst/>
              <a:rect l="l" t="t" r="r" b="b"/>
              <a:pathLst>
                <a:path w="936" h="1677">
                  <a:moveTo>
                    <a:pt x="153" y="585"/>
                  </a:moveTo>
                  <a:cubicBezTo>
                    <a:pt x="141" y="588"/>
                    <a:pt x="129" y="594"/>
                    <a:pt x="117" y="594"/>
                  </a:cubicBezTo>
                  <a:cubicBezTo>
                    <a:pt x="81" y="594"/>
                    <a:pt x="44" y="593"/>
                    <a:pt x="9" y="585"/>
                  </a:cubicBezTo>
                  <a:cubicBezTo>
                    <a:pt x="0" y="583"/>
                    <a:pt x="28" y="581"/>
                    <a:pt x="36" y="576"/>
                  </a:cubicBezTo>
                  <a:cubicBezTo>
                    <a:pt x="55" y="565"/>
                    <a:pt x="72" y="552"/>
                    <a:pt x="90" y="540"/>
                  </a:cubicBezTo>
                  <a:cubicBezTo>
                    <a:pt x="134" y="511"/>
                    <a:pt x="175" y="476"/>
                    <a:pt x="225" y="459"/>
                  </a:cubicBezTo>
                  <a:cubicBezTo>
                    <a:pt x="254" y="416"/>
                    <a:pt x="233" y="435"/>
                    <a:pt x="297" y="414"/>
                  </a:cubicBezTo>
                  <a:cubicBezTo>
                    <a:pt x="306" y="411"/>
                    <a:pt x="324" y="405"/>
                    <a:pt x="324" y="405"/>
                  </a:cubicBezTo>
                  <a:cubicBezTo>
                    <a:pt x="354" y="360"/>
                    <a:pt x="405" y="336"/>
                    <a:pt x="450" y="306"/>
                  </a:cubicBezTo>
                  <a:cubicBezTo>
                    <a:pt x="522" y="258"/>
                    <a:pt x="594" y="210"/>
                    <a:pt x="666" y="162"/>
                  </a:cubicBezTo>
                  <a:cubicBezTo>
                    <a:pt x="693" y="144"/>
                    <a:pt x="719" y="132"/>
                    <a:pt x="747" y="117"/>
                  </a:cubicBezTo>
                  <a:cubicBezTo>
                    <a:pt x="766" y="106"/>
                    <a:pt x="783" y="93"/>
                    <a:pt x="801" y="81"/>
                  </a:cubicBezTo>
                  <a:cubicBezTo>
                    <a:pt x="810" y="75"/>
                    <a:pt x="828" y="63"/>
                    <a:pt x="828" y="63"/>
                  </a:cubicBezTo>
                  <a:cubicBezTo>
                    <a:pt x="869" y="1"/>
                    <a:pt x="843" y="16"/>
                    <a:pt x="891" y="0"/>
                  </a:cubicBezTo>
                  <a:cubicBezTo>
                    <a:pt x="897" y="9"/>
                    <a:pt x="912" y="17"/>
                    <a:pt x="909" y="27"/>
                  </a:cubicBezTo>
                  <a:cubicBezTo>
                    <a:pt x="907" y="36"/>
                    <a:pt x="889" y="29"/>
                    <a:pt x="882" y="36"/>
                  </a:cubicBezTo>
                  <a:cubicBezTo>
                    <a:pt x="867" y="51"/>
                    <a:pt x="858" y="72"/>
                    <a:pt x="846" y="90"/>
                  </a:cubicBezTo>
                  <a:cubicBezTo>
                    <a:pt x="840" y="99"/>
                    <a:pt x="828" y="117"/>
                    <a:pt x="828" y="117"/>
                  </a:cubicBezTo>
                  <a:cubicBezTo>
                    <a:pt x="829" y="160"/>
                    <a:pt x="759" y="455"/>
                    <a:pt x="873" y="531"/>
                  </a:cubicBezTo>
                  <a:cubicBezTo>
                    <a:pt x="856" y="581"/>
                    <a:pt x="823" y="576"/>
                    <a:pt x="783" y="603"/>
                  </a:cubicBezTo>
                  <a:cubicBezTo>
                    <a:pt x="759" y="674"/>
                    <a:pt x="733" y="768"/>
                    <a:pt x="828" y="792"/>
                  </a:cubicBezTo>
                  <a:cubicBezTo>
                    <a:pt x="840" y="850"/>
                    <a:pt x="857" y="916"/>
                    <a:pt x="801" y="954"/>
                  </a:cubicBezTo>
                  <a:cubicBezTo>
                    <a:pt x="794" y="964"/>
                    <a:pt x="751" y="1022"/>
                    <a:pt x="783" y="1035"/>
                  </a:cubicBezTo>
                  <a:cubicBezTo>
                    <a:pt x="808" y="1045"/>
                    <a:pt x="837" y="1041"/>
                    <a:pt x="864" y="1044"/>
                  </a:cubicBezTo>
                  <a:cubicBezTo>
                    <a:pt x="873" y="1071"/>
                    <a:pt x="886" y="1100"/>
                    <a:pt x="900" y="1125"/>
                  </a:cubicBezTo>
                  <a:cubicBezTo>
                    <a:pt x="911" y="1144"/>
                    <a:pt x="936" y="1179"/>
                    <a:pt x="936" y="1179"/>
                  </a:cubicBezTo>
                  <a:cubicBezTo>
                    <a:pt x="921" y="1286"/>
                    <a:pt x="917" y="1395"/>
                    <a:pt x="909" y="1503"/>
                  </a:cubicBezTo>
                  <a:cubicBezTo>
                    <a:pt x="903" y="1581"/>
                    <a:pt x="924" y="1634"/>
                    <a:pt x="864" y="1674"/>
                  </a:cubicBezTo>
                  <a:cubicBezTo>
                    <a:pt x="615" y="1671"/>
                    <a:pt x="366" y="1677"/>
                    <a:pt x="117" y="1665"/>
                  </a:cubicBezTo>
                  <a:cubicBezTo>
                    <a:pt x="108" y="1665"/>
                    <a:pt x="115" y="1645"/>
                    <a:pt x="108" y="1638"/>
                  </a:cubicBezTo>
                  <a:cubicBezTo>
                    <a:pt x="101" y="1631"/>
                    <a:pt x="90" y="1632"/>
                    <a:pt x="81" y="1629"/>
                  </a:cubicBezTo>
                  <a:cubicBezTo>
                    <a:pt x="26" y="1465"/>
                    <a:pt x="48" y="1552"/>
                    <a:pt x="72" y="1206"/>
                  </a:cubicBezTo>
                  <a:cubicBezTo>
                    <a:pt x="73" y="1195"/>
                    <a:pt x="86" y="1189"/>
                    <a:pt x="90" y="1179"/>
                  </a:cubicBezTo>
                  <a:cubicBezTo>
                    <a:pt x="98" y="1162"/>
                    <a:pt x="108" y="1125"/>
                    <a:pt x="108" y="1125"/>
                  </a:cubicBezTo>
                  <a:cubicBezTo>
                    <a:pt x="116" y="981"/>
                    <a:pt x="131" y="792"/>
                    <a:pt x="108" y="657"/>
                  </a:cubicBezTo>
                  <a:cubicBezTo>
                    <a:pt x="105" y="642"/>
                    <a:pt x="78" y="651"/>
                    <a:pt x="63" y="648"/>
                  </a:cubicBezTo>
                  <a:cubicBezTo>
                    <a:pt x="43" y="588"/>
                    <a:pt x="45" y="613"/>
                    <a:pt x="45" y="576"/>
                  </a:cubicBezTo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0360" y="2205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49760" y="1989360"/>
              <a:ext cx="31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erdana"/>
                </a:rPr>
                <a:t>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481800" y="225360"/>
              <a:ext cx="1042920" cy="3383280"/>
            </a:xfrm>
            <a:custGeom>
              <a:avLst/>
              <a:gdLst/>
              <a:ahLst/>
              <a:rect l="l" t="t" r="r" b="b"/>
              <a:pathLst>
                <a:path w="657" h="2131">
                  <a:moveTo>
                    <a:pt x="635" y="2077"/>
                  </a:moveTo>
                  <a:cubicBezTo>
                    <a:pt x="464" y="2074"/>
                    <a:pt x="292" y="2083"/>
                    <a:pt x="122" y="2068"/>
                  </a:cubicBezTo>
                  <a:cubicBezTo>
                    <a:pt x="110" y="2067"/>
                    <a:pt x="119" y="2043"/>
                    <a:pt x="113" y="2032"/>
                  </a:cubicBezTo>
                  <a:cubicBezTo>
                    <a:pt x="107" y="2021"/>
                    <a:pt x="96" y="2013"/>
                    <a:pt x="86" y="2005"/>
                  </a:cubicBezTo>
                  <a:cubicBezTo>
                    <a:pt x="78" y="1998"/>
                    <a:pt x="68" y="1993"/>
                    <a:pt x="59" y="1987"/>
                  </a:cubicBezTo>
                  <a:cubicBezTo>
                    <a:pt x="64" y="1879"/>
                    <a:pt x="51" y="1768"/>
                    <a:pt x="77" y="1663"/>
                  </a:cubicBezTo>
                  <a:cubicBezTo>
                    <a:pt x="80" y="1653"/>
                    <a:pt x="95" y="1651"/>
                    <a:pt x="104" y="1645"/>
                  </a:cubicBezTo>
                  <a:cubicBezTo>
                    <a:pt x="145" y="1584"/>
                    <a:pt x="102" y="1661"/>
                    <a:pt x="113" y="1564"/>
                  </a:cubicBezTo>
                  <a:cubicBezTo>
                    <a:pt x="115" y="1550"/>
                    <a:pt x="151" y="1517"/>
                    <a:pt x="158" y="1510"/>
                  </a:cubicBezTo>
                  <a:cubicBezTo>
                    <a:pt x="187" y="1424"/>
                    <a:pt x="127" y="1428"/>
                    <a:pt x="59" y="1420"/>
                  </a:cubicBezTo>
                  <a:cubicBezTo>
                    <a:pt x="89" y="1375"/>
                    <a:pt x="68" y="1399"/>
                    <a:pt x="131" y="1357"/>
                  </a:cubicBezTo>
                  <a:cubicBezTo>
                    <a:pt x="140" y="1351"/>
                    <a:pt x="158" y="1339"/>
                    <a:pt x="158" y="1339"/>
                  </a:cubicBezTo>
                  <a:cubicBezTo>
                    <a:pt x="203" y="1272"/>
                    <a:pt x="161" y="1344"/>
                    <a:pt x="185" y="1186"/>
                  </a:cubicBezTo>
                  <a:cubicBezTo>
                    <a:pt x="188" y="1167"/>
                    <a:pt x="203" y="1132"/>
                    <a:pt x="203" y="1132"/>
                  </a:cubicBezTo>
                  <a:cubicBezTo>
                    <a:pt x="200" y="1081"/>
                    <a:pt x="210" y="1027"/>
                    <a:pt x="194" y="979"/>
                  </a:cubicBezTo>
                  <a:cubicBezTo>
                    <a:pt x="187" y="958"/>
                    <a:pt x="140" y="943"/>
                    <a:pt x="140" y="943"/>
                  </a:cubicBezTo>
                  <a:cubicBezTo>
                    <a:pt x="143" y="916"/>
                    <a:pt x="142" y="888"/>
                    <a:pt x="149" y="862"/>
                  </a:cubicBezTo>
                  <a:cubicBezTo>
                    <a:pt x="152" y="852"/>
                    <a:pt x="164" y="845"/>
                    <a:pt x="167" y="835"/>
                  </a:cubicBezTo>
                  <a:cubicBezTo>
                    <a:pt x="173" y="818"/>
                    <a:pt x="173" y="799"/>
                    <a:pt x="176" y="781"/>
                  </a:cubicBezTo>
                  <a:cubicBezTo>
                    <a:pt x="173" y="745"/>
                    <a:pt x="175" y="708"/>
                    <a:pt x="167" y="673"/>
                  </a:cubicBezTo>
                  <a:cubicBezTo>
                    <a:pt x="165" y="664"/>
                    <a:pt x="167" y="700"/>
                    <a:pt x="158" y="700"/>
                  </a:cubicBezTo>
                  <a:cubicBezTo>
                    <a:pt x="149" y="700"/>
                    <a:pt x="152" y="682"/>
                    <a:pt x="149" y="673"/>
                  </a:cubicBezTo>
                  <a:cubicBezTo>
                    <a:pt x="146" y="613"/>
                    <a:pt x="151" y="552"/>
                    <a:pt x="140" y="493"/>
                  </a:cubicBezTo>
                  <a:cubicBezTo>
                    <a:pt x="138" y="484"/>
                    <a:pt x="121" y="489"/>
                    <a:pt x="113" y="484"/>
                  </a:cubicBezTo>
                  <a:cubicBezTo>
                    <a:pt x="94" y="473"/>
                    <a:pt x="59" y="448"/>
                    <a:pt x="59" y="448"/>
                  </a:cubicBezTo>
                  <a:cubicBezTo>
                    <a:pt x="56" y="439"/>
                    <a:pt x="57" y="427"/>
                    <a:pt x="50" y="421"/>
                  </a:cubicBezTo>
                  <a:cubicBezTo>
                    <a:pt x="40" y="413"/>
                    <a:pt x="21" y="422"/>
                    <a:pt x="14" y="412"/>
                  </a:cubicBezTo>
                  <a:cubicBezTo>
                    <a:pt x="0" y="393"/>
                    <a:pt x="46" y="370"/>
                    <a:pt x="50" y="367"/>
                  </a:cubicBezTo>
                  <a:cubicBezTo>
                    <a:pt x="53" y="358"/>
                    <a:pt x="52" y="347"/>
                    <a:pt x="59" y="340"/>
                  </a:cubicBezTo>
                  <a:cubicBezTo>
                    <a:pt x="105" y="294"/>
                    <a:pt x="192" y="272"/>
                    <a:pt x="248" y="241"/>
                  </a:cubicBezTo>
                  <a:cubicBezTo>
                    <a:pt x="267" y="230"/>
                    <a:pt x="281" y="212"/>
                    <a:pt x="302" y="205"/>
                  </a:cubicBezTo>
                  <a:cubicBezTo>
                    <a:pt x="331" y="195"/>
                    <a:pt x="354" y="170"/>
                    <a:pt x="383" y="160"/>
                  </a:cubicBezTo>
                  <a:cubicBezTo>
                    <a:pt x="401" y="154"/>
                    <a:pt x="437" y="142"/>
                    <a:pt x="437" y="142"/>
                  </a:cubicBezTo>
                  <a:cubicBezTo>
                    <a:pt x="506" y="73"/>
                    <a:pt x="397" y="127"/>
                    <a:pt x="365" y="133"/>
                  </a:cubicBezTo>
                  <a:cubicBezTo>
                    <a:pt x="328" y="158"/>
                    <a:pt x="293" y="172"/>
                    <a:pt x="257" y="196"/>
                  </a:cubicBezTo>
                  <a:cubicBezTo>
                    <a:pt x="260" y="205"/>
                    <a:pt x="257" y="219"/>
                    <a:pt x="266" y="223"/>
                  </a:cubicBezTo>
                  <a:cubicBezTo>
                    <a:pt x="297" y="235"/>
                    <a:pt x="356" y="178"/>
                    <a:pt x="356" y="178"/>
                  </a:cubicBezTo>
                  <a:cubicBezTo>
                    <a:pt x="389" y="128"/>
                    <a:pt x="355" y="168"/>
                    <a:pt x="401" y="142"/>
                  </a:cubicBezTo>
                  <a:cubicBezTo>
                    <a:pt x="420" y="131"/>
                    <a:pt x="455" y="106"/>
                    <a:pt x="455" y="106"/>
                  </a:cubicBezTo>
                  <a:cubicBezTo>
                    <a:pt x="461" y="97"/>
                    <a:pt x="465" y="86"/>
                    <a:pt x="473" y="79"/>
                  </a:cubicBezTo>
                  <a:cubicBezTo>
                    <a:pt x="494" y="62"/>
                    <a:pt x="524" y="78"/>
                    <a:pt x="473" y="61"/>
                  </a:cubicBezTo>
                  <a:cubicBezTo>
                    <a:pt x="657" y="0"/>
                    <a:pt x="552" y="336"/>
                    <a:pt x="554" y="430"/>
                  </a:cubicBezTo>
                  <a:cubicBezTo>
                    <a:pt x="546" y="758"/>
                    <a:pt x="547" y="1083"/>
                    <a:pt x="563" y="1411"/>
                  </a:cubicBezTo>
                  <a:cubicBezTo>
                    <a:pt x="569" y="1523"/>
                    <a:pt x="564" y="1656"/>
                    <a:pt x="599" y="1762"/>
                  </a:cubicBezTo>
                  <a:cubicBezTo>
                    <a:pt x="602" y="1846"/>
                    <a:pt x="601" y="1930"/>
                    <a:pt x="608" y="2014"/>
                  </a:cubicBezTo>
                  <a:cubicBezTo>
                    <a:pt x="609" y="2023"/>
                    <a:pt x="617" y="1978"/>
                    <a:pt x="617" y="1987"/>
                  </a:cubicBezTo>
                  <a:cubicBezTo>
                    <a:pt x="617" y="2117"/>
                    <a:pt x="639" y="2091"/>
                    <a:pt x="599" y="2131"/>
                  </a:cubicBezTo>
                  <a:lnTo>
                    <a:pt x="635" y="207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780000" y="2636640"/>
              <a:ext cx="381636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751200" y="188640"/>
              <a:ext cx="3700440" cy="252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360" y="18446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51640" y="357372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64360" y="3789360"/>
              <a:ext cx="12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539640" y="2781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5640" y="4437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设观察者从左向右走到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他的眼睛的位置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两颗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恰在一条直线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观察者继续前进，由于这棵树的遮挡，右边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观察者的盲区之内，观察者看不到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19640" y="3500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题意可知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⊥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D⊥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∥C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H∽ △CF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3720" y="19162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258920" y="1773360"/>
            <a:ext cx="934920" cy="880920"/>
            <a:chOff x="1258920" y="1773360"/>
            <a:chExt cx="934920" cy="880920"/>
          </a:xfrm>
        </p:grpSpPr>
        <p:sp>
          <p:nvSpPr>
            <p:cNvPr id="671" name=""/>
            <p:cNvSpPr/>
            <p:nvPr/>
          </p:nvSpPr>
          <p:spPr>
            <a:xfrm>
              <a:off x="1373400" y="220500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58920" y="1773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01760" y="21337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908000" y="191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340000" y="1773360"/>
            <a:ext cx="949320" cy="867960"/>
            <a:chOff x="2340000" y="1773360"/>
            <a:chExt cx="949320" cy="867960"/>
          </a:xfrm>
        </p:grpSpPr>
        <p:sp>
          <p:nvSpPr>
            <p:cNvPr id="676" name=""/>
            <p:cNvSpPr/>
            <p:nvPr/>
          </p:nvSpPr>
          <p:spPr>
            <a:xfrm>
              <a:off x="2425680" y="220464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0000" y="1773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54400" y="21207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84360" y="3068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476360" y="2781360"/>
            <a:ext cx="1728720" cy="880920"/>
            <a:chOff x="1476360" y="2781360"/>
            <a:chExt cx="1728720" cy="880920"/>
          </a:xfrm>
        </p:grpSpPr>
        <p:sp>
          <p:nvSpPr>
            <p:cNvPr id="681" name=""/>
            <p:cNvSpPr/>
            <p:nvPr/>
          </p:nvSpPr>
          <p:spPr>
            <a:xfrm>
              <a:off x="1547640" y="3213000"/>
              <a:ext cx="100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47640" y="2781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76360" y="3141720"/>
              <a:ext cx="172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556000" y="2997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2708280"/>
            <a:ext cx="1582560" cy="952200"/>
            <a:chOff x="3059280" y="2708280"/>
            <a:chExt cx="1582560" cy="952200"/>
          </a:xfrm>
        </p:grpSpPr>
        <p:sp>
          <p:nvSpPr>
            <p:cNvPr id="686" name=""/>
            <p:cNvSpPr/>
            <p:nvPr/>
          </p:nvSpPr>
          <p:spPr>
            <a:xfrm>
              <a:off x="3202200" y="3139920"/>
              <a:ext cx="1081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2200" y="27082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-1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9280" y="3139920"/>
              <a:ext cx="15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2-1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116000" y="38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H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71640" y="4581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他与左边的树的距离小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由于这棵树的遮挡，右边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观察者的盲区之内，就不能看见右边较高的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：直立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的标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观察者站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，人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标杆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树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同一条直线上，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,B,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在同一条直线上，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D=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B=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F=1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求树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35280" y="5301720"/>
            <a:ext cx="496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835280" y="4365720"/>
            <a:ext cx="144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32720" y="314136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835280" y="3141720"/>
            <a:ext cx="489744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386064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59240" y="39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20000" y="5302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70980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08360" y="53737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62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661080" y="52848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371600" y="1676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相似三角形的应用主要有两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219320" y="259092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 测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19320" y="4648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不能到达两点间的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常构造相似三角形求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819520" y="259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（不能直接使用皮尺或刻度尺量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819520" y="4114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（不能直接测量的两点间的距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不能到达顶部的物体的高度，通常用“在同一时刻物高与影长成比例”的原理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19320" y="4114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 测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304920"/>
            <a:ext cx="3047760" cy="83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1523880" y="1828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解相似三角形实际问题的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289548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审题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构建图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利用相似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80880" y="3048120"/>
            <a:ext cx="7543440" cy="3580920"/>
            <a:chOff x="380880" y="3048120"/>
            <a:chExt cx="7543440" cy="35809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513480" y="3048120"/>
              <a:ext cx="1410840" cy="32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未知"/>
            <p:cNvSpPr/>
            <p:nvPr/>
          </p:nvSpPr>
          <p:spPr>
            <a:xfrm>
              <a:off x="4285080" y="5772600"/>
              <a:ext cx="2861640" cy="856440"/>
            </a:xfrm>
            <a:custGeom>
              <a:avLst/>
              <a:gdLst/>
              <a:ahLst/>
              <a:rect l="l" t="t" r="r" b="b"/>
              <a:pathLst>
                <a:path w="1515" h="385">
                  <a:moveTo>
                    <a:pt x="1515" y="175"/>
                  </a:moveTo>
                  <a:cubicBezTo>
                    <a:pt x="1426" y="158"/>
                    <a:pt x="1341" y="128"/>
                    <a:pt x="1252" y="112"/>
                  </a:cubicBezTo>
                  <a:cubicBezTo>
                    <a:pt x="1206" y="116"/>
                    <a:pt x="1160" y="117"/>
                    <a:pt x="1115" y="125"/>
                  </a:cubicBezTo>
                  <a:cubicBezTo>
                    <a:pt x="1089" y="130"/>
                    <a:pt x="1039" y="150"/>
                    <a:pt x="1039" y="150"/>
                  </a:cubicBezTo>
                  <a:cubicBezTo>
                    <a:pt x="1013" y="146"/>
                    <a:pt x="935" y="139"/>
                    <a:pt x="902" y="125"/>
                  </a:cubicBezTo>
                  <a:cubicBezTo>
                    <a:pt x="862" y="108"/>
                    <a:pt x="831" y="88"/>
                    <a:pt x="789" y="75"/>
                  </a:cubicBezTo>
                  <a:cubicBezTo>
                    <a:pt x="702" y="18"/>
                    <a:pt x="663" y="11"/>
                    <a:pt x="551" y="0"/>
                  </a:cubicBezTo>
                  <a:cubicBezTo>
                    <a:pt x="484" y="4"/>
                    <a:pt x="417" y="3"/>
                    <a:pt x="351" y="12"/>
                  </a:cubicBezTo>
                  <a:cubicBezTo>
                    <a:pt x="312" y="17"/>
                    <a:pt x="278" y="46"/>
                    <a:pt x="238" y="50"/>
                  </a:cubicBezTo>
                  <a:cubicBezTo>
                    <a:pt x="196" y="54"/>
                    <a:pt x="155" y="58"/>
                    <a:pt x="113" y="62"/>
                  </a:cubicBezTo>
                  <a:cubicBezTo>
                    <a:pt x="56" y="149"/>
                    <a:pt x="92" y="129"/>
                    <a:pt x="25" y="150"/>
                  </a:cubicBezTo>
                  <a:cubicBezTo>
                    <a:pt x="0" y="228"/>
                    <a:pt x="31" y="239"/>
                    <a:pt x="100" y="263"/>
                  </a:cubicBezTo>
                  <a:cubicBezTo>
                    <a:pt x="143" y="385"/>
                    <a:pt x="401" y="323"/>
                    <a:pt x="463" y="325"/>
                  </a:cubicBezTo>
                  <a:cubicBezTo>
                    <a:pt x="571" y="362"/>
                    <a:pt x="678" y="347"/>
                    <a:pt x="789" y="338"/>
                  </a:cubicBezTo>
                  <a:cubicBezTo>
                    <a:pt x="827" y="313"/>
                    <a:pt x="859" y="302"/>
                    <a:pt x="902" y="288"/>
                  </a:cubicBezTo>
                  <a:cubicBezTo>
                    <a:pt x="906" y="275"/>
                    <a:pt x="902" y="256"/>
                    <a:pt x="914" y="250"/>
                  </a:cubicBezTo>
                  <a:cubicBezTo>
                    <a:pt x="926" y="244"/>
                    <a:pt x="939" y="263"/>
                    <a:pt x="952" y="263"/>
                  </a:cubicBezTo>
                  <a:cubicBezTo>
                    <a:pt x="986" y="263"/>
                    <a:pt x="1019" y="254"/>
                    <a:pt x="1052" y="250"/>
                  </a:cubicBezTo>
                  <a:cubicBezTo>
                    <a:pt x="1141" y="118"/>
                    <a:pt x="1416" y="181"/>
                    <a:pt x="1515" y="175"/>
                  </a:cubicBezTo>
                  <a:close/>
                </a:path>
              </a:pathLst>
            </a:custGeom>
            <a:solidFill>
              <a:srgbClr val="bbe0e3">
                <a:alpha val="57000"/>
              </a:srgbClr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85080" y="3048120"/>
              <a:ext cx="2827080" cy="312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5080" y="6175080"/>
              <a:ext cx="291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48160" y="3048120"/>
              <a:ext cx="0" cy="312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01080" y="3855600"/>
              <a:ext cx="203040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未知"/>
            <p:cNvSpPr/>
            <p:nvPr/>
          </p:nvSpPr>
          <p:spPr>
            <a:xfrm>
              <a:off x="380880" y="5913000"/>
              <a:ext cx="2430720" cy="364320"/>
            </a:xfrm>
            <a:custGeom>
              <a:avLst/>
              <a:gdLst/>
              <a:ahLst/>
              <a:rect l="l" t="t" r="r" b="b"/>
              <a:pathLst>
                <a:path w="1095" h="206">
                  <a:moveTo>
                    <a:pt x="916" y="30"/>
                  </a:moveTo>
                  <a:cubicBezTo>
                    <a:pt x="853" y="10"/>
                    <a:pt x="870" y="10"/>
                    <a:pt x="775" y="30"/>
                  </a:cubicBezTo>
                  <a:cubicBezTo>
                    <a:pt x="749" y="36"/>
                    <a:pt x="699" y="56"/>
                    <a:pt x="699" y="56"/>
                  </a:cubicBezTo>
                  <a:cubicBezTo>
                    <a:pt x="599" y="23"/>
                    <a:pt x="492" y="49"/>
                    <a:pt x="391" y="18"/>
                  </a:cubicBezTo>
                  <a:cubicBezTo>
                    <a:pt x="327" y="23"/>
                    <a:pt x="249" y="2"/>
                    <a:pt x="199" y="43"/>
                  </a:cubicBezTo>
                  <a:cubicBezTo>
                    <a:pt x="119" y="108"/>
                    <a:pt x="231" y="64"/>
                    <a:pt x="135" y="94"/>
                  </a:cubicBezTo>
                  <a:cubicBezTo>
                    <a:pt x="127" y="107"/>
                    <a:pt x="125" y="128"/>
                    <a:pt x="110" y="133"/>
                  </a:cubicBezTo>
                  <a:cubicBezTo>
                    <a:pt x="102" y="136"/>
                    <a:pt x="0" y="100"/>
                    <a:pt x="97" y="133"/>
                  </a:cubicBezTo>
                  <a:cubicBezTo>
                    <a:pt x="101" y="146"/>
                    <a:pt x="101" y="162"/>
                    <a:pt x="110" y="171"/>
                  </a:cubicBezTo>
                  <a:cubicBezTo>
                    <a:pt x="145" y="206"/>
                    <a:pt x="214" y="170"/>
                    <a:pt x="251" y="158"/>
                  </a:cubicBezTo>
                  <a:cubicBezTo>
                    <a:pt x="376" y="172"/>
                    <a:pt x="407" y="159"/>
                    <a:pt x="532" y="146"/>
                  </a:cubicBezTo>
                  <a:cubicBezTo>
                    <a:pt x="626" y="115"/>
                    <a:pt x="509" y="146"/>
                    <a:pt x="622" y="146"/>
                  </a:cubicBezTo>
                  <a:cubicBezTo>
                    <a:pt x="708" y="146"/>
                    <a:pt x="793" y="128"/>
                    <a:pt x="878" y="120"/>
                  </a:cubicBezTo>
                  <a:cubicBezTo>
                    <a:pt x="956" y="104"/>
                    <a:pt x="1013" y="91"/>
                    <a:pt x="1095" y="82"/>
                  </a:cubicBezTo>
                  <a:cubicBezTo>
                    <a:pt x="1035" y="62"/>
                    <a:pt x="981" y="0"/>
                    <a:pt x="916" y="30"/>
                  </a:cubicBezTo>
                  <a:close/>
                </a:path>
              </a:pathLst>
            </a:custGeom>
            <a:solidFill>
              <a:srgbClr val="bbe0e3">
                <a:alpha val="48000"/>
              </a:srgbClr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560" y="3855600"/>
              <a:ext cx="1884960" cy="221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6880" y="3855600"/>
              <a:ext cx="0" cy="221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560" y="6075360"/>
              <a:ext cx="1884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阳光下，在同一时刻，物体的高度与物体的影长存在某种关系：物体的高度越高，物体的影长就越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133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平行光线的照射下，不同物体的物高与影长成比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测量路灯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高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竹竿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竖直立在水平地面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得竹竿的影子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长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拿竹竿向远离路灯方向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B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把竹竿竖立在地面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得竹竿的影长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‘C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路灯离地面的高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5473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1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图，有一路灯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直接到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灯光下，小明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测得自己的影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向到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再测得自己得影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果小明得身高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6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求路灯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高度。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27480" y="5178600"/>
            <a:ext cx="703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94240" y="5178600"/>
            <a:ext cx="7030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60520" y="2924280"/>
            <a:ext cx="0" cy="224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60520" y="5173560"/>
            <a:ext cx="485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76360" y="2924280"/>
            <a:ext cx="326700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76360" y="2924280"/>
            <a:ext cx="49006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4986360"/>
            <a:ext cx="704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64000" y="4149720"/>
            <a:ext cx="703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4149720"/>
            <a:ext cx="703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516720" y="4941720"/>
            <a:ext cx="704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466920" cy="8571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3348000" y="4437000"/>
            <a:ext cx="466920" cy="79236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116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2268360" y="4005360"/>
            <a:ext cx="6048720" cy="31417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250920" y="260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图，小华在晚上由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走向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当他走到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发现他身后影子的顶部刚好接触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底部，当他向前再步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达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发现他身前影子的顶部刚好接触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底部，已知小华的身高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6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两个路灯的高度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.6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 =x(m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两路灯之间的距离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小华走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他在路灯下的影子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95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课堂小结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6320" y="91440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 、相似三角形的应用主要有如下两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直接使用皮尺或刻度尺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直接测量的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1240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测高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量不能到达顶部的物体的高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常用“在同一时刻物高与影长的比例”的原理解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48769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测距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量不能到达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构造相似三角形求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95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课堂小结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320" y="7621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相似三角形的应用的主要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1981080"/>
            <a:ext cx="2971800" cy="16002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25146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800600" y="1371600"/>
            <a:ext cx="2743200" cy="2895480"/>
            <a:chOff x="4800600" y="1371600"/>
            <a:chExt cx="2743200" cy="2895480"/>
          </a:xfrm>
        </p:grpSpPr>
        <p:sp>
          <p:nvSpPr>
            <p:cNvPr id="741" name=""/>
            <p:cNvSpPr/>
            <p:nvPr/>
          </p:nvSpPr>
          <p:spPr>
            <a:xfrm>
              <a:off x="4800600" y="32767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800600" y="13716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0600" y="1371600"/>
              <a:ext cx="274320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3800" y="32767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85800" y="6172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8580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426708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29000" y="5181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514600" y="51814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42670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76920" y="5562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876920" y="3657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365760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0120" y="4572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705720" y="457200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20120" y="5562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6705720" y="5562360"/>
            <a:ext cx="91440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9202680" cy="1936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281952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挑战自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914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图，△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一块锐角三角形余料，边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BC=12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毫米，高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D=8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毫米，要把它加工成正方形零件，使正方形的一边在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上，其余两个顶点分别在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上，这个正方形零件的边长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00800" y="55627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400800" y="3657600"/>
            <a:ext cx="14479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3657600"/>
            <a:ext cx="91440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4572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162920" y="45720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305920" y="45720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848720" y="3657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848720" y="5410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924680" y="54100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05920" y="4267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0773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4281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674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201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763120" y="5257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19920" y="5348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2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4920" y="3200400"/>
            <a:ext cx="60195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设正方形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QM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是符合要求的△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的高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相交于点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。设正方形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QM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的边长为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毫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为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N∥BC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，所以△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PN∽ △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95280" y="4952880"/>
            <a:ext cx="2209680" cy="993240"/>
            <a:chOff x="1295280" y="4952880"/>
            <a:chExt cx="2209680" cy="993240"/>
          </a:xfrm>
        </p:grpSpPr>
        <p:sp>
          <p:nvSpPr>
            <p:cNvPr id="781" name=""/>
            <p:cNvSpPr/>
            <p:nvPr/>
          </p:nvSpPr>
          <p:spPr>
            <a:xfrm>
              <a:off x="137160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95280" y="5410080"/>
              <a:ext cx="838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71600" y="5410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0968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4320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6880" y="5410080"/>
              <a:ext cx="838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6688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52280" y="5791320"/>
            <a:ext cx="8991720" cy="916920"/>
            <a:chOff x="152280" y="5791320"/>
            <a:chExt cx="8991720" cy="916920"/>
          </a:xfrm>
        </p:grpSpPr>
        <p:sp>
          <p:nvSpPr>
            <p:cNvPr id="789" name=""/>
            <p:cNvSpPr/>
            <p:nvPr/>
          </p:nvSpPr>
          <p:spPr>
            <a:xfrm>
              <a:off x="152280" y="6019920"/>
              <a:ext cx="89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因此                                   ，得 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=48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（毫米）。答：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-------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1218960" y="5791320"/>
              <a:ext cx="2362320" cy="916920"/>
              <a:chOff x="1218960" y="5791320"/>
              <a:chExt cx="2362320" cy="916920"/>
            </a:xfrm>
          </p:grpSpPr>
          <p:sp>
            <p:nvSpPr>
              <p:cNvPr id="791" name=""/>
              <p:cNvSpPr/>
              <p:nvPr/>
            </p:nvSpPr>
            <p:spPr>
              <a:xfrm>
                <a:off x="1218960" y="57913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80–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6248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8960" y="6248520"/>
                <a:ext cx="83808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09680" y="60199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819160" y="5791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590560" y="6248520"/>
                <a:ext cx="83808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90560" y="6248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61320" y="2397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50440" y="1324080"/>
            <a:ext cx="4613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课堂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56 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57 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8   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家庭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基础训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64~p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探索与思考选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军想出了一个测量建筑物高度的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面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平放一面镜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在镜子上做一个标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向后退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至看到建筑物的顶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镜子中的象与镜子上 的标记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小军的眼睛距地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65m,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分别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这座建筑物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295280" y="3733920"/>
            <a:ext cx="2268720" cy="257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61960" y="6308640"/>
            <a:ext cx="671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324480" y="5105520"/>
            <a:ext cx="1800" cy="1154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324480" y="57909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77080" y="5734080"/>
            <a:ext cx="71280" cy="574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04000" y="5734080"/>
            <a:ext cx="216000" cy="144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4500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892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3764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8672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56360" y="6308640"/>
            <a:ext cx="287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971800" y="4267080"/>
            <a:ext cx="3328920" cy="20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871960" y="55324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19800" y="55627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17320" y="836640"/>
            <a:ext cx="6424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图，为了测量一栋大楼的高度，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同学在她脚下放了一面镜子，然后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退，直到她刚好在镜子中看到大楼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。这时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M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M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如果王青的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5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她估计自己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地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0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同时量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M=30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S=25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栋大楼有多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rcRect l="65261" t="71520" r="23087" b="14432"/>
          <a:stretch/>
        </p:blipFill>
        <p:spPr>
          <a:xfrm>
            <a:off x="6084720" y="2781360"/>
            <a:ext cx="3059280" cy="395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小丽利用影长测量学校旗杆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旗杆靠近一个建筑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某一时刻旗杆影子中的一部分映在建筑物的墙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丽测得旗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面上的影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墙上的影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时又测得竖立于地面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的标杆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.8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帮助小丽求出旗杆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51280" y="4005360"/>
            <a:ext cx="649440" cy="1800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84720" y="5805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356000" y="3860640"/>
            <a:ext cx="316872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24720" y="386064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24720" y="386064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451640" y="5661000"/>
            <a:ext cx="73080" cy="144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194360" y="58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290000" y="58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0802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7636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971640" y="566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971640" y="4869000"/>
            <a:ext cx="50472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276720" y="5300640"/>
            <a:ext cx="1079280" cy="50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580536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58000" y="4959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7600" y="5638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97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356000" y="5300640"/>
            <a:ext cx="0" cy="50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8380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4479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长的标杆直立在水平地面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在阳光下的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；此时一棵水杉树的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棵水杉树高为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7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14.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15.7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809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在某一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有人测得一高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的竹竿的影长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某一高楼的影长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那么高楼的高度是多少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利用影长测量物体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24000" y="1159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学楼旁边有一棵树，数学兴趣小组的同学们想利用树影测量树高。课外活动时在阳光下他们测得一根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的竹竿的影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但当他们马上测量树高时，发现树的影子不全落在地面上，有一部分影子落在教学楼的墙壁上。他们测得落在地面的影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落在墙壁上的影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请你和他们一起算一下，树高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851280" y="4076640"/>
            <a:ext cx="4392360" cy="2808360"/>
            <a:chOff x="3851280" y="4076640"/>
            <a:chExt cx="4392360" cy="2808360"/>
          </a:xfrm>
        </p:grpSpPr>
        <p:pic>
          <p:nvPicPr>
            <p:cNvPr id="840" name="" descr=""/>
            <p:cNvPicPr/>
            <p:nvPr/>
          </p:nvPicPr>
          <p:blipFill>
            <a:blip r:embed="rId1"/>
            <a:stretch/>
          </p:blipFill>
          <p:spPr>
            <a:xfrm>
              <a:off x="3851280" y="4076640"/>
              <a:ext cx="4392360" cy="20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5544360" y="6441840"/>
              <a:ext cx="2539800" cy="4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：小明想测量一颗大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高度，发现树的影子恰好落在土坡的坡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地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，测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=4m,BC=10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地面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度角，且测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竹杆的影子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那么树的高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547640" y="2781360"/>
            <a:ext cx="7417080" cy="3480840"/>
            <a:chOff x="1547640" y="2781360"/>
            <a:chExt cx="7417080" cy="3480840"/>
          </a:xfrm>
        </p:grpSpPr>
        <p:sp>
          <p:nvSpPr>
            <p:cNvPr id="844" name=""/>
            <p:cNvSpPr/>
            <p:nvPr/>
          </p:nvSpPr>
          <p:spPr>
            <a:xfrm>
              <a:off x="5736960" y="5558760"/>
              <a:ext cx="52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1547640" y="2781360"/>
              <a:ext cx="7417080" cy="3115800"/>
              <a:chOff x="1547640" y="2781360"/>
              <a:chExt cx="7417080" cy="3115800"/>
            </a:xfrm>
          </p:grpSpPr>
          <p:sp>
            <p:nvSpPr>
              <p:cNvPr id="846" name=""/>
              <p:cNvSpPr/>
              <p:nvPr/>
            </p:nvSpPr>
            <p:spPr>
              <a:xfrm>
                <a:off x="1685160" y="2781360"/>
                <a:ext cx="52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686600" y="508392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06240" y="461052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2440440" y="5219640"/>
                <a:ext cx="4668840" cy="68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82640" y="5287320"/>
                <a:ext cx="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54360" y="5259960"/>
                <a:ext cx="0" cy="449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24360" y="2984400"/>
                <a:ext cx="755640" cy="28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 flipH="1" flipV="1">
                <a:off x="2370600" y="3052800"/>
                <a:ext cx="69480" cy="264132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547640" y="4677480"/>
                <a:ext cx="7417080" cy="1219680"/>
                <a:chOff x="1547640" y="4677480"/>
                <a:chExt cx="7417080" cy="121968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1547640" y="5694120"/>
                  <a:ext cx="7417080" cy="203040"/>
                  <a:chOff x="1547640" y="5694120"/>
                  <a:chExt cx="7417080" cy="2030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7640" y="5694120"/>
                    <a:ext cx="7417080" cy="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096640" y="5694120"/>
                    <a:ext cx="2739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312660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3813840" y="5694120"/>
                    <a:ext cx="2059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4775040" y="5694120"/>
                    <a:ext cx="2055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5805000" y="5694120"/>
                    <a:ext cx="137520" cy="13428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525528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669816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7247880" y="5694120"/>
                    <a:ext cx="137520" cy="13428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6216840" y="5694120"/>
                    <a:ext cx="1375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4293720" y="5694120"/>
                    <a:ext cx="2059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2577240" y="5694120"/>
                    <a:ext cx="2073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7727400" y="5694120"/>
                    <a:ext cx="13788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8209080" y="5694120"/>
                    <a:ext cx="1375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8758800" y="5694120"/>
                    <a:ext cx="1357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6354360" y="4677480"/>
                  <a:ext cx="2265840" cy="1016640"/>
                  <a:chOff x="6354360" y="4677480"/>
                  <a:chExt cx="2265840" cy="1016640"/>
                </a:xfrm>
              </p:grpSpPr>
              <p:sp>
                <p:nvSpPr>
                  <p:cNvPr id="872" name="未知"/>
                  <p:cNvSpPr/>
                  <p:nvPr/>
                </p:nvSpPr>
                <p:spPr>
                  <a:xfrm>
                    <a:off x="6354360" y="4677480"/>
                    <a:ext cx="2265840" cy="10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81">
                        <a:moveTo>
                          <a:pt x="0" y="681"/>
                        </a:moveTo>
                        <a:cubicBezTo>
                          <a:pt x="90" y="597"/>
                          <a:pt x="181" y="514"/>
                          <a:pt x="272" y="454"/>
                        </a:cubicBezTo>
                        <a:cubicBezTo>
                          <a:pt x="363" y="394"/>
                          <a:pt x="424" y="394"/>
                          <a:pt x="545" y="318"/>
                        </a:cubicBezTo>
                        <a:cubicBezTo>
                          <a:pt x="666" y="242"/>
                          <a:pt x="923" y="53"/>
                          <a:pt x="998" y="0"/>
                        </a:cubicBezTo>
                      </a:path>
                    </a:pathLst>
                  </a:custGeom>
                  <a:noFill/>
                  <a:ln w="4752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620200" y="4677480"/>
                    <a:ext cx="0" cy="1016640"/>
                  </a:xfrm>
                  <a:prstGeom prst="line">
                    <a:avLst/>
                  </a:prstGeom>
                  <a:ln w="507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6767640" y="5490720"/>
                    <a:ext cx="823680" cy="13428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280640" y="5286240"/>
                    <a:ext cx="928800" cy="33876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795800" y="5151960"/>
                    <a:ext cx="824040" cy="33876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8104680" y="4949280"/>
                    <a:ext cx="515160" cy="27000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8" name=""/>
              <p:cNvSpPr/>
              <p:nvPr/>
            </p:nvSpPr>
            <p:spPr>
              <a:xfrm>
                <a:off x="2370960" y="3053160"/>
                <a:ext cx="4738680" cy="223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440800" y="5679360"/>
                <a:ext cx="3913560" cy="14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6354360" y="5286960"/>
                <a:ext cx="755280" cy="407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24000" y="333360"/>
            <a:ext cx="8496000" cy="6264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468360" y="69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皮皮欲测楼房高度，他借助一长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标竿，当楼房顶部、标竿顶端与他的眼睛在一条直线 上时，其他人测出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AB=4m,AC=12m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已知皮皮眼睛离地面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6m.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请你帮他算出楼房的高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115640" y="2708280"/>
            <a:ext cx="5639040" cy="3560760"/>
            <a:chOff x="1115640" y="2708280"/>
            <a:chExt cx="5639040" cy="3560760"/>
          </a:xfrm>
        </p:grpSpPr>
        <p:sp>
          <p:nvSpPr>
            <p:cNvPr id="885" name=""/>
            <p:cNvSpPr/>
            <p:nvPr/>
          </p:nvSpPr>
          <p:spPr>
            <a:xfrm>
              <a:off x="1268280" y="573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97080" y="580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88000" y="580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115640" y="2708280"/>
              <a:ext cx="5639040" cy="3030480"/>
              <a:chOff x="1115640" y="2708280"/>
              <a:chExt cx="5639040" cy="30304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1115640" y="3060360"/>
                <a:ext cx="5639040" cy="2678400"/>
                <a:chOff x="1115640" y="3060360"/>
                <a:chExt cx="5639040" cy="267840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5916600" y="3060360"/>
                  <a:ext cx="838080" cy="2678040"/>
                  <a:chOff x="5916600" y="3060360"/>
                  <a:chExt cx="838080" cy="267804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5916600" y="3060360"/>
                    <a:ext cx="838080" cy="2678040"/>
                  </a:xfrm>
                  <a:prstGeom prst="rect">
                    <a:avLst/>
                  </a:prstGeom>
                  <a:noFill/>
                  <a:ln w="38160">
                    <a:solidFill>
                      <a:srgbClr val="cc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221520" y="331128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221520" y="38973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221520" y="43995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221520" y="49017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6" name=""/>
                <p:cNvSpPr/>
                <p:nvPr/>
              </p:nvSpPr>
              <p:spPr>
                <a:xfrm flipH="1">
                  <a:off x="1572840" y="3060360"/>
                  <a:ext cx="4267080" cy="2043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840280" y="552708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1344600" y="4963320"/>
                  <a:ext cx="380880" cy="704520"/>
                  <a:chOff x="1344600" y="4963320"/>
                  <a:chExt cx="380880" cy="70452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1420920" y="4963320"/>
                    <a:ext cx="228600" cy="28188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420920" y="5245200"/>
                    <a:ext cx="228600" cy="211320"/>
                  </a:xfrm>
                  <a:prstGeom prst="flowChartManualOperation">
                    <a:avLst/>
                  </a:pr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1420560" y="5456520"/>
                    <a:ext cx="7596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1573200" y="5456520"/>
                    <a:ext cx="7632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1344600" y="5245200"/>
                    <a:ext cx="7632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1649520" y="5245200"/>
                    <a:ext cx="7596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flipH="1">
                  <a:off x="1115640" y="5738760"/>
                  <a:ext cx="48006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325680" y="4258440"/>
                  <a:ext cx="76320" cy="1479960"/>
                </a:xfrm>
                <a:prstGeom prst="rect">
                  <a:avLst/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>
                <a:off x="1268280" y="46112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21120" y="383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611680" y="270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0" name=""/>
          <p:cNvSpPr/>
          <p:nvPr/>
        </p:nvSpPr>
        <p:spPr>
          <a:xfrm>
            <a:off x="6877080" y="2060640"/>
            <a:ext cx="685800" cy="609480"/>
          </a:xfrm>
          <a:custGeom>
            <a:avLst/>
            <a:gdLst>
              <a:gd name="textAreaLeft" fmla="*/ 156600 w 685800"/>
              <a:gd name="textAreaRight" fmla="*/ 529200 w 685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0" y="4572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∠C=90°,BC=8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AC-3BC=0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移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向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移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,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几秒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,P,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顶点的三角形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B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828800" y="3352680"/>
            <a:ext cx="4648320" cy="2882880"/>
            <a:chOff x="1828800" y="3352680"/>
            <a:chExt cx="4648320" cy="2882880"/>
          </a:xfrm>
        </p:grpSpPr>
        <p:sp>
          <p:nvSpPr>
            <p:cNvPr id="913" name=""/>
            <p:cNvSpPr/>
            <p:nvPr/>
          </p:nvSpPr>
          <p:spPr>
            <a:xfrm>
              <a:off x="2362320" y="57909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38680" y="38098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362320" y="3809520"/>
              <a:ext cx="32763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809880" y="51048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9092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791320" y="533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62720" y="3352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28800" y="55623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627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57600" y="5715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15000" y="4724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4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86400" y="56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422440" y="0"/>
            <a:ext cx="6721560" cy="4162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28600" y="4191120"/>
            <a:ext cx="8915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夫金字塔是埃及现存规模最大的金字塔，被喻为“世界古代七大奇观之一”。塔的４个斜面正对东南西北四个方向，塔基呈正方形，每边长约２３０多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据考证，为建成大金字塔，共动用了１０万人花了２０年时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高１４６．５９米，但由于经过几千年的风吹雨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顶端被风化吹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高度有所降低 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90720"/>
            <a:ext cx="23605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走近金字塔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59280" y="4221000"/>
            <a:ext cx="1979640" cy="263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16720" y="1052640"/>
            <a:ext cx="2448000" cy="160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4920" y="765000"/>
            <a:ext cx="61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埃及著名的考古专家穆罕穆德决定重新测量胡夫金字塔的高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烈日高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上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和儿子小穆罕穆德来到了金字塔脚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想考一考年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的小穆罕穆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924280"/>
            <a:ext cx="3961080" cy="2160360"/>
          </a:xfrm>
          <a:prstGeom prst="cloudCallout">
            <a:avLst>
              <a:gd name="adj1" fmla="val 68638"/>
              <a:gd name="adj2" fmla="val 23916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给你一条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高的木杆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把皮尺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利用所学知识来测出塔高吗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3357720"/>
            <a:ext cx="1081080" cy="718920"/>
          </a:xfrm>
          <a:prstGeom prst="cloudCallout">
            <a:avLst>
              <a:gd name="adj1" fmla="val 97578"/>
              <a:gd name="adj2" fmla="val 106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rot="701400">
            <a:off x="5866920" y="3429000"/>
            <a:ext cx="466920" cy="51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63640" y="515772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484360" y="5589720"/>
            <a:ext cx="719280" cy="287280"/>
            <a:chOff x="2484360" y="5589720"/>
            <a:chExt cx="719280" cy="287280"/>
          </a:xfrm>
        </p:grpSpPr>
        <p:sp>
          <p:nvSpPr>
            <p:cNvPr id="196" name=""/>
            <p:cNvSpPr/>
            <p:nvPr/>
          </p:nvSpPr>
          <p:spPr>
            <a:xfrm>
              <a:off x="2484360" y="5589720"/>
              <a:ext cx="719280" cy="287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25560" y="5686560"/>
              <a:ext cx="21600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189080" y="609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米木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6046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皮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7020000" y="4581360"/>
            <a:ext cx="99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404640"/>
            <a:ext cx="8785440" cy="62661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64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据史料记者，古希腊数学家、天文学家泰勒斯曾利用相似三角形的原理，在金字塔影子顶部立一根木杆，利用平行光线构成两个相似三角形，来测量金字塔的高度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133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，如果木杆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它的影长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测得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1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求金字塔的高度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2924280"/>
            <a:ext cx="75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：太阳光是平行光线，由此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A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342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3933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∽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12492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116000" y="5157720"/>
            <a:ext cx="3168720" cy="668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16000" y="5950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此金字塔的高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4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0" y="3860640"/>
            <a:ext cx="4211640" cy="1732320"/>
            <a:chOff x="4572000" y="3860640"/>
            <a:chExt cx="4211640" cy="1732320"/>
          </a:xfrm>
        </p:grpSpPr>
        <p:grpSp>
          <p:nvGrpSpPr>
            <p:cNvPr id="211" name=""/>
            <p:cNvGrpSpPr/>
            <p:nvPr/>
          </p:nvGrpSpPr>
          <p:grpSpPr>
            <a:xfrm>
              <a:off x="4572000" y="3860640"/>
              <a:ext cx="4211640" cy="1732320"/>
              <a:chOff x="4572000" y="3860640"/>
              <a:chExt cx="4211640" cy="1732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572000" y="4257360"/>
                <a:ext cx="1512720" cy="1297080"/>
              </a:xfrm>
              <a:prstGeom prst="triangle">
                <a:avLst>
                  <a:gd name="adj" fmla="val 6663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696000">
                <a:off x="5477400" y="4199760"/>
                <a:ext cx="844560" cy="1258920"/>
              </a:xfrm>
              <a:prstGeom prst="triangle">
                <a:avLst>
                  <a:gd name="adj" fmla="val 7666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102360" y="4941720"/>
                <a:ext cx="1566720" cy="619200"/>
              </a:xfrm>
              <a:custGeom>
                <a:avLst/>
                <a:gdLst/>
                <a:ahLst/>
                <a:rect l="l" t="t" r="r" b="b"/>
                <a:pathLst>
                  <a:path w="987" h="390">
                    <a:moveTo>
                      <a:pt x="0" y="390"/>
                    </a:moveTo>
                    <a:lnTo>
                      <a:pt x="987" y="177"/>
                    </a:lnTo>
                    <a:lnTo>
                      <a:pt x="351" y="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253120" y="4257360"/>
                <a:ext cx="326880" cy="693720"/>
              </a:xfrm>
              <a:custGeom>
                <a:avLst/>
                <a:gdLst/>
                <a:ahLst/>
                <a:rect l="l" t="t" r="r" b="b"/>
                <a:pathLst>
                  <a:path w="206" h="437">
                    <a:moveTo>
                      <a:pt x="206" y="0"/>
                    </a:moveTo>
                    <a:lnTo>
                      <a:pt x="0" y="4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253120" y="4938480"/>
                <a:ext cx="1384200" cy="1800"/>
              </a:xfrm>
              <a:custGeom>
                <a:avLst/>
                <a:gdLst/>
                <a:ahLst/>
                <a:rect l="l" t="t" r="r" b="b"/>
                <a:pathLst>
                  <a:path w="872" h="1">
                    <a:moveTo>
                      <a:pt x="0" y="0"/>
                    </a:moveTo>
                    <a:lnTo>
                      <a:pt x="87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572000" y="4951080"/>
                <a:ext cx="674640" cy="603360"/>
              </a:xfrm>
              <a:custGeom>
                <a:avLst/>
                <a:gdLst/>
                <a:ahLst/>
                <a:rect l="l" t="t" r="r" b="b"/>
                <a:pathLst>
                  <a:path w="425" h="380">
                    <a:moveTo>
                      <a:pt x="425" y="0"/>
                    </a:moveTo>
                    <a:lnTo>
                      <a:pt x="0" y="3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0000" y="4257360"/>
                <a:ext cx="2087640" cy="9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67640" y="4617720"/>
                <a:ext cx="7128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67640" y="5194080"/>
                <a:ext cx="86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40720" y="4617720"/>
                <a:ext cx="79200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62560" y="386064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51640" y="418608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51640" y="519408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50200" y="515592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33840" y="508464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580000" y="429228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0000" y="52290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962160" cy="294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" y="304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在小穆罕穆德测得金字塔的的阴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他还同时测得小木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影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在父亲的帮助下，他还测得了金字塔底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度大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590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能不能帮助小穆罕穆德求出这座金字塔的高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943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8680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归纳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利用影长测量物体的高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原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不能到达顶部的物体高度，通常利用“相似三角形的对应边的比相等”和“在同一时刻物高与影长的比相等”的原理来解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在同一时刻测量出参照物和被测量物体的影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,B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测量出参照物的高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计算出被测量物体的高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5105520"/>
            <a:ext cx="160020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5410080"/>
            <a:ext cx="1371600" cy="1143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2160" y="48927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49440" y="6248520"/>
            <a:ext cx="5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50925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64929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6280" y="63403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2:33:52Z</dcterms:created>
  <dc:creator>www.edudown.net</dc:creator>
  <dc:description>www.edudown.net</dc:description>
  <cp:keywords>www.edudown.net</cp:keywords>
  <dc:language>en-US</dc:language>
  <cp:lastModifiedBy>微软用户</cp:lastModifiedBy>
  <dcterms:modified xsi:type="dcterms:W3CDTF">2014-11-10T01:47:51Z</dcterms:modified>
  <cp:revision>17</cp:revision>
  <dc:subject>www.edudown.net</dc:subject>
  <dc:title>www.edudown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